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9299-0672-44FA-9897-6068F34D9B3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F42-5D80-4F6E-8CB7-53EB15A3F445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5DB-54D0-453F-8F2F-A4E5958D965F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8DE-B1DB-452E-9FD3-42B1E585F2EE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BA1-B3C4-402A-B357-A5B6B6EB27E0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676-6457-4498-9EAA-E84E52E3ACAD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71B-EA61-424D-90BA-04CE232E02F8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C3-267C-4DD6-9C0C-191E6547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924-48BB-44E7-9E2C-CECE37C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443-5DA6-406F-AD18-DC2C7F49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808-DFC8-4CF3-8EA8-44A1735A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7E44-F54C-42A3-BBA7-192B6422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E37E-3145-40CA-832F-F9237EA1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A159-A252-401B-9469-3D0F4D8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391C-351B-43F8-A776-41B76BC1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419F-B515-423E-A55E-7BC2FE6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3AF7-B520-4B84-9370-5017AD3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25BC-2719-45B0-83E6-81C2A66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22B-6B4C-4330-BA68-74B2881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D4DE-E87D-484B-AA8A-BD84D73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593-0648-4F11-82B9-78284BD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31E1-AFCC-4FC3-BDC8-114CF99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99D8-704C-4B71-B797-A3128D71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FA58-050D-45B1-912C-BEE4F62B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F5C-7EB9-4535-82C0-836431AC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8D4-9159-4BEA-BF20-24620FC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C7A-4837-4BC5-8B9A-DC70C97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A28-1C4C-4BC4-BC14-B64CE85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D0B-9693-4731-9333-B33BDA4C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C22-C571-4242-9188-32420C5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DCA-814E-4568-B3C7-E4C9728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1CB-1035-4548-A895-FB40F1A61D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1848-08BD-41C7-B289-7CA45FFD4A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1000080" y="242892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 metodiche di valutazione del rischio nelle Aziende e nelle Strutture sanitari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CasellaDiTesto 2"/>
          <p:cNvSpPr/>
          <p:nvPr/>
        </p:nvSpPr>
        <p:spPr>
          <a:xfrm>
            <a:off x="928800" y="5286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gno Nazion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er una cultura della sicurezz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poli, 21 gennaio 20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uppo 3"/>
          <p:cNvGrpSpPr/>
          <p:nvPr/>
        </p:nvGrpSpPr>
        <p:grpSpPr>
          <a:xfrm>
            <a:off x="214200" y="314280"/>
            <a:ext cx="8577360" cy="1401840"/>
            <a:chOff x="214200" y="314280"/>
            <a:chExt cx="8577360" cy="1401840"/>
          </a:xfrm>
        </p:grpSpPr>
        <p:pic>
          <p:nvPicPr>
            <p:cNvPr id="119" name="Picture 4" descr="logotrasp1024"/>
            <p:cNvPicPr/>
            <p:nvPr/>
          </p:nvPicPr>
          <p:blipFill>
            <a:blip r:embed="rId1"/>
            <a:stretch/>
          </p:blipFill>
          <p:spPr>
            <a:xfrm>
              <a:off x="7172280" y="314280"/>
              <a:ext cx="1619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214200" y="404640"/>
              <a:ext cx="687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UNIVERSITA’ DEGLI STUDI DI NAPOLI FEDERICO I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64760" y="765000"/>
              <a:ext cx="648180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partimento di Scienze Mediche Preventive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ahoma"/>
                </a:rPr>
                <a:t>Sezione di Medicina del Lavor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6"/>
          <p:cNvSpPr/>
          <p:nvPr/>
        </p:nvSpPr>
        <p:spPr>
          <a:xfrm rot="2700000">
            <a:off x="2521440" y="1307520"/>
            <a:ext cx="4205160" cy="4206600"/>
          </a:xfrm>
          <a:custGeom>
            <a:avLst/>
            <a:gdLst>
              <a:gd name="textAreaLeft" fmla="*/ 1051920 w 4205160"/>
              <a:gd name="textAreaRight" fmla="*/ 3154680 w 4205160"/>
              <a:gd name="textAreaTop" fmla="*/ 1052280 h 4206600"/>
              <a:gd name="textAreaBottom" fmla="*/ 3155760 h 4206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92360" y="2862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O ENERGET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692280"/>
            <a:ext cx="2519280" cy="1008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372360" y="76500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n 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96720" y="5084640"/>
            <a:ext cx="251964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dizion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h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372360" y="508464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m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b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1476360" y="115920"/>
            <a:ext cx="6408720" cy="1050840"/>
          </a:xfrm>
          <a:prstGeom prst="downArrowCallout">
            <a:avLst>
              <a:gd name="adj1" fmla="val 152481"/>
              <a:gd name="adj2" fmla="val 152467"/>
              <a:gd name="adj3" fmla="val 16667"/>
              <a:gd name="adj4" fmla="val 6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 INFORTUNIGEN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0" y="177156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CAN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276720" y="1557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menti e 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tture edilizi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zzi di locomozione e traspor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34920" y="350028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T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720" y="3532320"/>
            <a:ext cx="561636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ircuiti e grupp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4920" y="5229360"/>
            <a:ext cx="2987640" cy="93636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76720" y="5013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rilizzator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 di laboratori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ntrali term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189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IPALI RISCHI EMERGENTI NEL SETTORE SANITAR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108000" y="206064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 LA SICUREZ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2019240"/>
            <a:ext cx="5184720" cy="1167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ove tecnologi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ercezione delle inadeguatezze strutturali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684360" y="907920"/>
            <a:ext cx="1584000" cy="649440"/>
            <a:chOff x="684360" y="907920"/>
            <a:chExt cx="1584000" cy="649440"/>
          </a:xfrm>
        </p:grpSpPr>
        <p:sp>
          <p:nvSpPr>
            <p:cNvPr id="253" name="AutoShape 10"/>
            <p:cNvSpPr/>
            <p:nvPr/>
          </p:nvSpPr>
          <p:spPr>
            <a:xfrm>
              <a:off x="684360" y="907920"/>
              <a:ext cx="1511280" cy="649440"/>
            </a:xfrm>
            <a:prstGeom prst="downArrowCallout">
              <a:avLst>
                <a:gd name="adj1" fmla="val 58182"/>
                <a:gd name="adj2" fmla="val 58176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755640" y="90792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ISCHI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4067280" y="907920"/>
            <a:ext cx="4392360" cy="649440"/>
            <a:chOff x="4067280" y="907920"/>
            <a:chExt cx="4392360" cy="649440"/>
          </a:xfrm>
        </p:grpSpPr>
        <p:sp>
          <p:nvSpPr>
            <p:cNvPr id="256" name="Text Box 6"/>
            <p:cNvSpPr/>
            <p:nvPr/>
          </p:nvSpPr>
          <p:spPr>
            <a:xfrm>
              <a:off x="4067280" y="907920"/>
              <a:ext cx="43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NDUTTORE DELL’EMERGENZ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140360" y="907920"/>
              <a:ext cx="4248000" cy="649440"/>
            </a:xfrm>
            <a:prstGeom prst="downArrowCallout">
              <a:avLst>
                <a:gd name="adj1" fmla="val 163540"/>
                <a:gd name="adj2" fmla="val 163525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8" name="AutoShape 17"/>
          <p:cNvSpPr/>
          <p:nvPr/>
        </p:nvSpPr>
        <p:spPr>
          <a:xfrm>
            <a:off x="108000" y="3789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R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3564000" y="3587760"/>
            <a:ext cx="5184720" cy="1472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resenza di ambienti con climatizzazione artifi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onoscenza degli effetti di microclimi non congru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108000" y="558792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RGONO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3564000" y="5692680"/>
            <a:ext cx="518472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tempi delle incongruità pos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arichi di lavor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108000" y="2781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SICOSO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64000" y="536400"/>
            <a:ext cx="5184720" cy="5620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mplessità delle mans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aturazione nei tempi di lavor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esponsabilizz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sercizio delle funzioni di giudizio e valutazione  dall’ester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nflittualità interpersonale, originata da un sistema, nella gran parte dei casi funzionalmente non bene definit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ivello di scontro tra le esigenze assistenziali e le funzioni di controllo econometrico di ess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gressiva dei corredi motivazionali e delle possibilità di partecipazione e cambiamen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asellaDiTesto 1"/>
          <p:cNvSpPr/>
          <p:nvPr/>
        </p:nvSpPr>
        <p:spPr>
          <a:xfrm>
            <a:off x="1357200" y="157176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N METODO DI VALUTAZIONE DEI RISCHI NELLE STRUTTURE SANIT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396720"/>
            <a:ext cx="510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633680" y="30780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METODO NON DIRET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computr2"/>
          <p:cNvSpPr/>
          <p:nvPr/>
        </p:nvSpPr>
        <p:spPr>
          <a:xfrm>
            <a:off x="609480" y="1447920"/>
            <a:ext cx="1809720" cy="1809720"/>
          </a:xfrm>
          <a:custGeom>
            <a:avLst/>
            <a:gdLst>
              <a:gd name="textAreaLeft" fmla="*/ 518760 w 1809720"/>
              <a:gd name="textAreaRight" fmla="*/ 1304280 w 1809720"/>
              <a:gd name="textAreaTop" fmla="*/ 160200 h 1809720"/>
              <a:gd name="textAreaBottom" fmla="*/ 816480 h 1809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048120" y="16765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stema basato sul calcolo integrato di più indicat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7"/>
          <p:cNvSpPr txBox="1"/>
          <p:nvPr/>
        </p:nvSpPr>
        <p:spPr>
          <a:xfrm rot="5400000">
            <a:off x="-598680" y="4640400"/>
            <a:ext cx="2950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antagg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810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mplic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981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dotto cos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9810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peti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9810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ggiorna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WordArt 12"/>
          <p:cNvSpPr txBox="1"/>
          <p:nvPr/>
        </p:nvSpPr>
        <p:spPr>
          <a:xfrm rot="5400000">
            <a:off x="3821040" y="4643280"/>
            <a:ext cx="2951280" cy="8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imit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095880" y="4114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ssenza di limiti normati di rifer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uzzle3"/>
          <p:cNvSpPr/>
          <p:nvPr/>
        </p:nvSpPr>
        <p:spPr>
          <a:xfrm>
            <a:off x="4352760" y="533520"/>
            <a:ext cx="3144960" cy="3240000"/>
          </a:xfrm>
          <a:custGeom>
            <a:avLst/>
            <a:gdLst>
              <a:gd name="textAreaLeft" fmla="*/ 330840 w 3144960"/>
              <a:gd name="textAreaRight" fmla="*/ 2788200 w 3144960"/>
              <a:gd name="textAreaTop" fmla="*/ 1157760 h 3240000"/>
              <a:gd name="textAreaBottom" fmla="*/ 3035880 h 32400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uzzle2"/>
          <p:cNvSpPr/>
          <p:nvPr/>
        </p:nvSpPr>
        <p:spPr>
          <a:xfrm>
            <a:off x="3438360" y="2894040"/>
            <a:ext cx="5019840" cy="2949480"/>
          </a:xfrm>
          <a:custGeom>
            <a:avLst/>
            <a:gdLst>
              <a:gd name="textAreaLeft" fmla="*/ 1252080 w 5019840"/>
              <a:gd name="textAreaRight" fmla="*/ 3759480 w 5019840"/>
              <a:gd name="textAreaTop" fmla="*/ 920520 h 2949480"/>
              <a:gd name="textAreaBottom" fmla="*/ 2791440 h 29494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uzzle4"/>
          <p:cNvSpPr/>
          <p:nvPr/>
        </p:nvSpPr>
        <p:spPr>
          <a:xfrm>
            <a:off x="1495440" y="2857680"/>
            <a:ext cx="3027240" cy="3771720"/>
          </a:xfrm>
          <a:custGeom>
            <a:avLst/>
            <a:gdLst>
              <a:gd name="textAreaLeft" fmla="*/ 290880 w 3027240"/>
              <a:gd name="textAreaRight" fmla="*/ 2831760 w 3027240"/>
              <a:gd name="textAreaTop" fmla="*/ 988920 h 3771720"/>
              <a:gd name="textAreaBottom" fmla="*/ 2790360 h 37717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uzzle1"/>
          <p:cNvSpPr/>
          <p:nvPr/>
        </p:nvSpPr>
        <p:spPr>
          <a:xfrm>
            <a:off x="457200" y="1512720"/>
            <a:ext cx="5081760" cy="2249640"/>
          </a:xfrm>
          <a:custGeom>
            <a:avLst/>
            <a:gdLst>
              <a:gd name="textAreaLeft" fmla="*/ 1431720 w 5081760"/>
              <a:gd name="textAreaRight" fmla="*/ 3795480 w 5081760"/>
              <a:gd name="textAreaTop" fmla="*/ 267480 h 2249640"/>
              <a:gd name="textAreaBottom" fmla="*/ 2036520 h 22496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52480" y="763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NDICATORI DI RISCH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21932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 di 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4648320" y="1752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n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67652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 dell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114800" y="3962520"/>
            <a:ext cx="3429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09480" y="0"/>
            <a:ext cx="7772400" cy="1355760"/>
            <a:chOff x="609480" y="0"/>
            <a:chExt cx="7772400" cy="1355760"/>
          </a:xfrm>
        </p:grpSpPr>
        <p:pic>
          <p:nvPicPr>
            <p:cNvPr id="287" name="Picture 4" descr="j0195324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1447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5"/>
            <p:cNvSpPr/>
            <p:nvPr/>
          </p:nvSpPr>
          <p:spPr>
            <a:xfrm>
              <a:off x="2971800" y="233280"/>
              <a:ext cx="54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ffff"/>
                  </a:solidFill>
                  <a:latin typeface="Times New Roman"/>
                </a:rPr>
                <a:t>METODI DI CALCOLO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5867280" y="2819520"/>
            <a:ext cx="3124440" cy="119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schio potenzial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52360" y="2362320"/>
            <a:ext cx="5353200" cy="71892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-152280" y="248292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e di pericolosit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7621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TTERISTICHE DELL’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52360" y="312408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-152280" y="324468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nsità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252360" y="388620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-152280" y="400680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ata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252360" y="5037120"/>
            <a:ext cx="6118200" cy="1440000"/>
          </a:xfrm>
          <a:custGeom>
            <a:avLst/>
            <a:gdLst>
              <a:gd name="textAreaLeft" fmla="*/ 0 w 6118200"/>
              <a:gd name="textAreaRight" fmla="*/ 6118560 w 61182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-1376280" y="5157720"/>
            <a:ext cx="526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zia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442880" y="5181480"/>
            <a:ext cx="526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686720" y="5029200"/>
            <a:ext cx="1211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477120" y="5029200"/>
            <a:ext cx="120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73880" y="5170320"/>
            <a:ext cx="24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schio     re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23"/>
          <p:cNvSpPr/>
          <p:nvPr/>
        </p:nvSpPr>
        <p:spPr>
          <a:xfrm rot="5400000">
            <a:off x="6362280" y="552420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8458200" y="5410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362320" y="5410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445080" y="5086440"/>
            <a:ext cx="2664000" cy="136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33720" y="228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SOTTOINDICATOR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Document"/>
          <p:cNvSpPr/>
          <p:nvPr/>
        </p:nvSpPr>
        <p:spPr>
          <a:xfrm>
            <a:off x="342900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581280" y="9907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429000" y="18288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o di 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429000" y="2922480"/>
            <a:ext cx="25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quenz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ola e cumul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cument"/>
          <p:cNvSpPr/>
          <p:nvPr/>
        </p:nvSpPr>
        <p:spPr>
          <a:xfrm>
            <a:off x="6324480" y="914400"/>
            <a:ext cx="2519640" cy="5757840"/>
          </a:xfrm>
          <a:custGeom>
            <a:avLst/>
            <a:gdLst>
              <a:gd name="textAreaLeft" fmla="*/ 113760 w 2519640"/>
              <a:gd name="textAreaRight" fmla="*/ 2405880 w 251964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645240" y="9907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DA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80200" y="1905120"/>
            <a:ext cx="25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tteristiche ambient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11960" y="2927520"/>
            <a:ext cx="22748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tazione mezzi prote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477120" y="4368960"/>
            <a:ext cx="22539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zione Form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Document"/>
          <p:cNvSpPr/>
          <p:nvPr/>
        </p:nvSpPr>
        <p:spPr>
          <a:xfrm>
            <a:off x="30492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57200" y="1066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NTENSIT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57200" y="14637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380880" y="24764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57120" y="2978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rietà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7120" y="36212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v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57120" y="4121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tori interfer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89080" y="1484280"/>
            <a:ext cx="8675640" cy="506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icognizione dei perico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llocazione in una classe di pericol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dici di pericolosità  dedotti da criteri  oggettivi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Individuazione della classe di rischio teoric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terazione tra la classe di pericolo, l’intensità e la durata dell’esposizione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alisi dei modi d’esposizione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otazioni in DPI, DPO e D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ifica della rispondenza rispetto alla check-list corrispondente alla classe di rischio teor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alcolo del rischio attua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60280"/>
            <a:ext cx="7777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c79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l procedimento di calcolo procede in fasi success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ecisione 22"/>
          <p:cNvSpPr/>
          <p:nvPr/>
        </p:nvSpPr>
        <p:spPr>
          <a:xfrm>
            <a:off x="2760840" y="2179800"/>
            <a:ext cx="3598560" cy="2184120"/>
          </a:xfrm>
          <a:prstGeom prst="flowChartDecision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allout a incrocio 16"/>
          <p:cNvSpPr/>
          <p:nvPr/>
        </p:nvSpPr>
        <p:spPr>
          <a:xfrm rot="2700000">
            <a:off x="1787040" y="476280"/>
            <a:ext cx="5581800" cy="5581800"/>
          </a:xfrm>
          <a:custGeom>
            <a:avLst/>
            <a:gdLst>
              <a:gd name="textAreaLeft" fmla="*/ 1447920 w 5581800"/>
              <a:gd name="textAreaRight" fmla="*/ 4133880 w 5581800"/>
              <a:gd name="textAreaTop" fmla="*/ 1447920 h 5581800"/>
              <a:gd name="textAreaBottom" fmla="*/ 4133880 h 5581800"/>
            </a:gdLst>
            <a:ahLst/>
            <a:rect l="textAreaLeft" t="textAreaTop" r="textAreaRight" b="textAreaBottom"/>
            <a:pathLst>
              <a:path w="4500000" h="4500000">
                <a:moveTo>
                  <a:pt x="0" y="2250000"/>
                </a:moveTo>
                <a:lnTo>
                  <a:pt x="833175" y="1416825"/>
                </a:lnTo>
                <a:lnTo>
                  <a:pt x="833175" y="1833412"/>
                </a:lnTo>
                <a:lnTo>
                  <a:pt x="1167232" y="1833412"/>
                </a:lnTo>
                <a:lnTo>
                  <a:pt x="1167232" y="1167232"/>
                </a:lnTo>
                <a:lnTo>
                  <a:pt x="1833412" y="1167232"/>
                </a:lnTo>
                <a:lnTo>
                  <a:pt x="1833412" y="833175"/>
                </a:lnTo>
                <a:lnTo>
                  <a:pt x="1416825" y="833175"/>
                </a:lnTo>
                <a:lnTo>
                  <a:pt x="2250000" y="0"/>
                </a:lnTo>
                <a:lnTo>
                  <a:pt x="3083175" y="833175"/>
                </a:lnTo>
                <a:lnTo>
                  <a:pt x="2666588" y="833175"/>
                </a:lnTo>
                <a:lnTo>
                  <a:pt x="2666588" y="1167232"/>
                </a:lnTo>
                <a:lnTo>
                  <a:pt x="3332768" y="1167232"/>
                </a:lnTo>
                <a:lnTo>
                  <a:pt x="3332768" y="1833412"/>
                </a:lnTo>
                <a:lnTo>
                  <a:pt x="3666825" y="1833412"/>
                </a:lnTo>
                <a:lnTo>
                  <a:pt x="3666825" y="1416825"/>
                </a:lnTo>
                <a:lnTo>
                  <a:pt x="4500000" y="2250000"/>
                </a:lnTo>
                <a:lnTo>
                  <a:pt x="3666825" y="3083175"/>
                </a:lnTo>
                <a:lnTo>
                  <a:pt x="3666825" y="2666588"/>
                </a:lnTo>
                <a:lnTo>
                  <a:pt x="3332768" y="2666588"/>
                </a:lnTo>
                <a:lnTo>
                  <a:pt x="3332768" y="3332768"/>
                </a:lnTo>
                <a:lnTo>
                  <a:pt x="2666588" y="3332768"/>
                </a:lnTo>
                <a:lnTo>
                  <a:pt x="2666588" y="3666825"/>
                </a:lnTo>
                <a:lnTo>
                  <a:pt x="3083175" y="3666825"/>
                </a:lnTo>
                <a:lnTo>
                  <a:pt x="2250000" y="4500000"/>
                </a:lnTo>
                <a:lnTo>
                  <a:pt x="1416825" y="3666825"/>
                </a:lnTo>
                <a:lnTo>
                  <a:pt x="1833412" y="3666825"/>
                </a:lnTo>
                <a:lnTo>
                  <a:pt x="1833412" y="3332768"/>
                </a:lnTo>
                <a:lnTo>
                  <a:pt x="1167232" y="3332768"/>
                </a:lnTo>
                <a:lnTo>
                  <a:pt x="1167232" y="2666588"/>
                </a:lnTo>
                <a:lnTo>
                  <a:pt x="833175" y="2666588"/>
                </a:lnTo>
                <a:lnTo>
                  <a:pt x="833175" y="308317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89280" y="3063960"/>
            <a:ext cx="35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SCHI LAVORATIVI NELLE                                      STRUTTURE SANITARIE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CasellaDiTesto 23"/>
          <p:cNvSpPr/>
          <p:nvPr/>
        </p:nvSpPr>
        <p:spPr>
          <a:xfrm rot="2700000">
            <a:off x="2576160" y="18784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’ambien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CasellaDiTesto 32"/>
          <p:cNvSpPr/>
          <p:nvPr/>
        </p:nvSpPr>
        <p:spPr>
          <a:xfrm rot="18900000">
            <a:off x="2616840" y="43776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e mansioni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CasellaDiTesto 33"/>
          <p:cNvSpPr/>
          <p:nvPr/>
        </p:nvSpPr>
        <p:spPr>
          <a:xfrm>
            <a:off x="960480" y="693720"/>
            <a:ext cx="16556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rutture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iant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CasellaDiTesto 34"/>
          <p:cNvSpPr/>
          <p:nvPr/>
        </p:nvSpPr>
        <p:spPr>
          <a:xfrm>
            <a:off x="6576840" y="725400"/>
            <a:ext cx="17402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cchinar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CasellaDiTesto 36"/>
          <p:cNvSpPr/>
          <p:nvPr/>
        </p:nvSpPr>
        <p:spPr>
          <a:xfrm rot="2700000">
            <a:off x="5071320" y="45162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’organizzazione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CasellaDiTesto 40"/>
          <p:cNvSpPr/>
          <p:nvPr/>
        </p:nvSpPr>
        <p:spPr>
          <a:xfrm>
            <a:off x="960480" y="5234040"/>
            <a:ext cx="165564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genti biologici Chimici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nergetic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CasellaDiTesto 41"/>
          <p:cNvSpPr/>
          <p:nvPr/>
        </p:nvSpPr>
        <p:spPr>
          <a:xfrm>
            <a:off x="6576840" y="5234040"/>
            <a:ext cx="165600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i e spaz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eg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lazio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CasellaDiTesto 23"/>
          <p:cNvSpPr/>
          <p:nvPr/>
        </p:nvSpPr>
        <p:spPr>
          <a:xfrm rot="18900000">
            <a:off x="4993560" y="16106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e tecnologi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71600" y="18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LCOLO DEL RISCHIO ATTUALE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1066680"/>
            <a:ext cx="8458200" cy="5610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 utilizzano le check list di conform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 ciascuna di esse (per DPI, DPO e DPA), sono indicate le misure necess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l numero ed il tipo di misure variano in rapporto con la classe di rischio potenz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d ogni misura compete un valore, che è dato dalla divisione della quota percentuale corrispondente al tipo di dispositivo per il numero contenuto in ciascuna lis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viduate le misure presenti, diventa possibile calcolare quanto del rischio è coperto in ciascuna categoria di dispositivo e quanto di rischio è totalmente cope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428760" y="206064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TAZIONE DEL RISCHIO  DELLA ORGANIZZAZION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tm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ternan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5"/>
          <p:cNvSpPr/>
          <p:nvPr/>
        </p:nvSpPr>
        <p:spPr>
          <a:xfrm rot="13500000">
            <a:off x="5950440" y="45338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u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prstDash val="dash"/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l TEMP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163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 SPAZ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3887640" y="-5666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219560" y="2205000"/>
            <a:ext cx="4237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87800" y="105264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fis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9"/>
          <p:cNvSpPr/>
          <p:nvPr/>
        </p:nvSpPr>
        <p:spPr>
          <a:xfrm rot="10800000">
            <a:off x="4286160" y="429228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4920" y="1052640"/>
            <a:ext cx="2160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statico (spazio di ingombr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732720" y="1052640"/>
            <a:ext cx="241128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namico (spazio di escursione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19"/>
          <p:cNvSpPr/>
          <p:nvPr/>
        </p:nvSpPr>
        <p:spPr>
          <a:xfrm rot="5400000">
            <a:off x="3889080" y="33224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276720" y="486900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   psicolog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4920" y="4797360"/>
            <a:ext cx="216072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autonomia  (Area cuscinett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6732720" y="4797360"/>
            <a:ext cx="216036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relazione (Area dei contatti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fis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omo-macchin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nt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"/>
          <p:cNvSpPr/>
          <p:nvPr/>
        </p:nvSpPr>
        <p:spPr>
          <a:xfrm rot="13500000">
            <a:off x="5945760" y="446256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omo sistem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L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EG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8"/>
          <p:cNvSpPr/>
          <p:nvPr/>
        </p:nvSpPr>
        <p:spPr>
          <a:xfrm>
            <a:off x="3348000" y="3573360"/>
            <a:ext cx="936720" cy="1224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468360" y="115920"/>
            <a:ext cx="7991280" cy="3456000"/>
            <a:chOff x="468360" y="115920"/>
            <a:chExt cx="7991280" cy="3456000"/>
          </a:xfrm>
        </p:grpSpPr>
        <p:sp>
          <p:nvSpPr>
            <p:cNvPr id="352" name="Text Box 4"/>
            <p:cNvSpPr/>
            <p:nvPr/>
          </p:nvSpPr>
          <p:spPr>
            <a:xfrm>
              <a:off x="1187280" y="907920"/>
              <a:ext cx="6553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APPROCCI METODOLOGICI ALLA VALUTAZIONE DELLO STRESS LAVORO CORRELATO 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5"/>
            <p:cNvSpPr/>
            <p:nvPr/>
          </p:nvSpPr>
          <p:spPr>
            <a:xfrm>
              <a:off x="468360" y="115920"/>
              <a:ext cx="7991280" cy="345600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4" name="AutoShape 9"/>
          <p:cNvSpPr/>
          <p:nvPr/>
        </p:nvSpPr>
        <p:spPr>
          <a:xfrm>
            <a:off x="4788000" y="3573360"/>
            <a:ext cx="934920" cy="1224000"/>
          </a:xfrm>
          <a:custGeom>
            <a:avLst/>
            <a:gdLst>
              <a:gd name="textAreaLeft" fmla="*/ 125280 w 934920"/>
              <a:gd name="textAreaRight" fmla="*/ 809640 w 934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50920" y="4581360"/>
            <a:ext cx="28810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ERG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940360" y="4584600"/>
            <a:ext cx="28814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PSICOLOG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228600" y="1701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635280" y="1773360"/>
            <a:ext cx="5184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ura delle occasioni di stress in  gruppi omogenei per attività e caratteristiche del rapporto lavorativo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50920" y="3438360"/>
            <a:ext cx="3313080" cy="236700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 DE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ODI E 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ARATTERISTIC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GANIZZAZ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708360" y="4221000"/>
            <a:ext cx="5184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ividuazione e parametrazione delle criticità nei sistemi organizzativ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31640" y="-298440"/>
            <a:ext cx="853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odi di Analisi secondo modelli di Psicologia socia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MBIAMENTI NELL’APPROCCIO              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CasellaDiTesto 4"/>
          <p:cNvSpPr/>
          <p:nvPr/>
        </p:nvSpPr>
        <p:spPr>
          <a:xfrm>
            <a:off x="285840" y="1285920"/>
            <a:ext cx="8501040" cy="3591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o modelli interpretativi in auge sino a periodi relativamente recenti, il danno psicologico nei lavoratori è stato ritenuto maggiormente, se non esclusivamente, conseguenza di predisposizioni e caratteristiche individual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pettative irrealistiche verso i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turbi della person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gilità caratteriali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sia, bassa autosti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ccia circolare a destra 5"/>
          <p:cNvSpPr/>
          <p:nvPr/>
        </p:nvSpPr>
        <p:spPr>
          <a:xfrm>
            <a:off x="285840" y="49417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CasellaDiTesto 6"/>
          <p:cNvSpPr/>
          <p:nvPr/>
        </p:nvSpPr>
        <p:spPr>
          <a:xfrm>
            <a:off x="1000080" y="5643720"/>
            <a:ext cx="800100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problema era considerato “esterno al lavoro”, potendo questo subirne finanche gli effetti avver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ttangolo 1"/>
          <p:cNvSpPr/>
          <p:nvPr/>
        </p:nvSpPr>
        <p:spPr>
          <a:xfrm>
            <a:off x="357120" y="1042920"/>
            <a:ext cx="8429760" cy="378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moderno approccio al problema del danno psicologico lavoro correlato attribuisce un peso rilevante, in alcuni casi esclusivo, ad anomalie dell’organizzazione del lavor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po e caratteristiche dell’attività svolt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i  di resa di ess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con i colleghi e con i ca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tra il lavoratore e 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CasellaDiTesto 3"/>
          <p:cNvSpPr/>
          <p:nvPr/>
        </p:nvSpPr>
        <p:spPr>
          <a:xfrm>
            <a:off x="5000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CCIO MODERNO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ccia circolare a destra 4"/>
          <p:cNvSpPr/>
          <p:nvPr/>
        </p:nvSpPr>
        <p:spPr>
          <a:xfrm>
            <a:off x="285840" y="4869000"/>
            <a:ext cx="642960" cy="785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520"/>
              <a:gd name="textAreaBottom" fmla="*/ 56916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CasellaDiTesto 5"/>
          <p:cNvSpPr/>
          <p:nvPr/>
        </p:nvSpPr>
        <p:spPr>
          <a:xfrm>
            <a:off x="1042920" y="5502240"/>
            <a:ext cx="7505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 approccio proficuo al problema non può che interessare il sistema organizzativo de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00040" y="2349360"/>
            <a:ext cx="3786120" cy="315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QUANTITÀ DI LAVORO DA SVOLGERE RISPETTO AL TEMPO CHE SI HA A DI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Callout con freccia in giù 4"/>
          <p:cNvSpPr/>
          <p:nvPr/>
        </p:nvSpPr>
        <p:spPr>
          <a:xfrm>
            <a:off x="64296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ICO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Callout con freccia in giù 5"/>
          <p:cNvSpPr/>
          <p:nvPr/>
        </p:nvSpPr>
        <p:spPr>
          <a:xfrm>
            <a:off x="528624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L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96000" y="2301840"/>
            <a:ext cx="4140000" cy="314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POTER ESERCITARE UN CONTROLLO  SUL PROPRIO LAVORO E DI POTERLO GESTIRE IN AUT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2"/>
          <p:cNvGrpSpPr/>
          <p:nvPr/>
        </p:nvGrpSpPr>
        <p:grpSpPr>
          <a:xfrm>
            <a:off x="2916000" y="2203560"/>
            <a:ext cx="3168720" cy="2593800"/>
            <a:chOff x="2916000" y="2203560"/>
            <a:chExt cx="3168720" cy="2593800"/>
          </a:xfrm>
        </p:grpSpPr>
        <p:grpSp>
          <p:nvGrpSpPr>
            <p:cNvPr id="134" name="Group 10"/>
            <p:cNvGrpSpPr/>
            <p:nvPr/>
          </p:nvGrpSpPr>
          <p:grpSpPr>
            <a:xfrm>
              <a:off x="2916000" y="2203560"/>
              <a:ext cx="3168720" cy="2593800"/>
              <a:chOff x="2916000" y="2203560"/>
              <a:chExt cx="3168720" cy="2593800"/>
            </a:xfrm>
          </p:grpSpPr>
          <p:sp>
            <p:nvSpPr>
              <p:cNvPr id="135" name="AutoShape 8"/>
              <p:cNvSpPr/>
              <p:nvPr/>
            </p:nvSpPr>
            <p:spPr>
              <a:xfrm>
                <a:off x="2916360" y="328464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AutoShape 9"/>
              <p:cNvSpPr/>
              <p:nvPr/>
            </p:nvSpPr>
            <p:spPr>
              <a:xfrm rot="10800000">
                <a:off x="2916000" y="220320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7" name="Text Box 11"/>
            <p:cNvSpPr/>
            <p:nvPr/>
          </p:nvSpPr>
          <p:spPr>
            <a:xfrm>
              <a:off x="3132000" y="292428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Valutazioni di congruità delle struttur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539640" y="189000"/>
            <a:ext cx="7848720" cy="1944360"/>
            <a:chOff x="539640" y="189000"/>
            <a:chExt cx="7848720" cy="1944360"/>
          </a:xfrm>
        </p:grpSpPr>
        <p:grpSp>
          <p:nvGrpSpPr>
            <p:cNvPr id="139" name="Group 17"/>
            <p:cNvGrpSpPr/>
            <p:nvPr/>
          </p:nvGrpSpPr>
          <p:grpSpPr>
            <a:xfrm>
              <a:off x="539640" y="1197000"/>
              <a:ext cx="7848720" cy="936360"/>
              <a:chOff x="539640" y="1197000"/>
              <a:chExt cx="7848720" cy="936360"/>
            </a:xfrm>
          </p:grpSpPr>
          <p:sp>
            <p:nvSpPr>
              <p:cNvPr id="140" name="AutoShape 13"/>
              <p:cNvSpPr/>
              <p:nvPr/>
            </p:nvSpPr>
            <p:spPr>
              <a:xfrm>
                <a:off x="53964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AutoShape 14"/>
              <p:cNvSpPr/>
              <p:nvPr/>
            </p:nvSpPr>
            <p:spPr>
              <a:xfrm>
                <a:off x="248436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AutoShape 15"/>
              <p:cNvSpPr/>
              <p:nvPr/>
            </p:nvSpPr>
            <p:spPr>
              <a:xfrm>
                <a:off x="442908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16"/>
              <p:cNvSpPr/>
              <p:nvPr/>
            </p:nvSpPr>
            <p:spPr>
              <a:xfrm>
                <a:off x="6372360" y="1197000"/>
                <a:ext cx="2016000" cy="936360"/>
              </a:xfrm>
              <a:prstGeom prst="upArrowCallout">
                <a:avLst>
                  <a:gd name="adj1" fmla="val 53830"/>
                  <a:gd name="adj2" fmla="val 5382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18"/>
            <p:cNvSpPr/>
            <p:nvPr/>
          </p:nvSpPr>
          <p:spPr>
            <a:xfrm>
              <a:off x="755640" y="26028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277164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non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471636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inacce alla stabilità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6659640" y="26028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ato del sottosuol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195640" y="160344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ahoma"/>
                </a:rPr>
                <a:t>STATICITA’ – AGIBILITA’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23"/>
          <p:cNvGrpSpPr/>
          <p:nvPr/>
        </p:nvGrpSpPr>
        <p:grpSpPr>
          <a:xfrm>
            <a:off x="611280" y="4869000"/>
            <a:ext cx="7848000" cy="936000"/>
            <a:chOff x="611280" y="4869000"/>
            <a:chExt cx="7848000" cy="936000"/>
          </a:xfrm>
        </p:grpSpPr>
        <p:sp>
          <p:nvSpPr>
            <p:cNvPr id="150" name="AutoShape 24"/>
            <p:cNvSpPr/>
            <p:nvPr/>
          </p:nvSpPr>
          <p:spPr>
            <a:xfrm rot="10800000">
              <a:off x="644364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AutoShape 25"/>
            <p:cNvSpPr/>
            <p:nvPr/>
          </p:nvSpPr>
          <p:spPr>
            <a:xfrm rot="10800000">
              <a:off x="449820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26"/>
            <p:cNvSpPr/>
            <p:nvPr/>
          </p:nvSpPr>
          <p:spPr>
            <a:xfrm rot="10800000">
              <a:off x="255384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27"/>
            <p:cNvSpPr/>
            <p:nvPr/>
          </p:nvSpPr>
          <p:spPr>
            <a:xfrm rot="10800000">
              <a:off x="61128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Text Box 28"/>
          <p:cNvSpPr/>
          <p:nvPr/>
        </p:nvSpPr>
        <p:spPr>
          <a:xfrm>
            <a:off x="900000" y="4941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DEGUATEZZA NORMATIVA E FRUBI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826920" y="5950080"/>
            <a:ext cx="15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844720" y="595008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or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8944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tazioni Impian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73272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rredi tecnic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Callout con freccia in giù 2"/>
          <p:cNvSpPr/>
          <p:nvPr/>
        </p:nvSpPr>
        <p:spPr>
          <a:xfrm>
            <a:off x="571680" y="1255680"/>
            <a:ext cx="3429000" cy="804960"/>
          </a:xfrm>
          <a:prstGeom prst="downArrowCallout">
            <a:avLst>
              <a:gd name="adj1" fmla="val 25009"/>
              <a:gd name="adj2" fmla="val 24987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CONOSC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00040" y="2565360"/>
            <a:ext cx="3640320" cy="330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OTTENERE APPREZZAMENTI E RICONOSCIMENTI PER IL PROPRIO LAVORO E PER I PROPRI SFORZ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Callout con freccia in giù 4"/>
          <p:cNvSpPr/>
          <p:nvPr/>
        </p:nvSpPr>
        <p:spPr>
          <a:xfrm>
            <a:off x="5214960" y="825480"/>
            <a:ext cx="3389400" cy="152388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ZIONE SOC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927680" y="2505240"/>
            <a:ext cx="3892320" cy="322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È LA PERCEZIONE CHE I RAPPORTI TRA I COLLEGHI SONO FLUIDI,  COOPERATIVI E BASATI SULLA FIDUC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QU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24000" y="2071800"/>
            <a:ext cx="3855960" cy="315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CHE LE RISORSE E LE OPPORTUNITA’DI  CARRIERA SONO DISTRIBUITE EQUAMENTE TRA I DIPENDENT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allout con freccia in giù 4"/>
          <p:cNvSpPr/>
          <p:nvPr/>
        </p:nvSpPr>
        <p:spPr>
          <a:xfrm>
            <a:off x="5143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643280" y="2071800"/>
            <a:ext cx="4321440" cy="286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ONDIVIDERE I VALORI E GLI OBIETTIVI DEL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79280" y="2071800"/>
            <a:ext cx="4176720" cy="366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 PROPRIO CAPO IN RELAZIONE ALLA TRASMISSIONE DI INFORMAZIONI, ALLA DELEGA, ALLA PRESA DI DECISIONE, ALLA COMUNICAZIONE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Callout con freccia in giù 4"/>
          <p:cNvSpPr/>
          <p:nvPr/>
        </p:nvSpPr>
        <p:spPr>
          <a:xfrm>
            <a:off x="5000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VILUPPO COMPETENZ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788000" y="2143080"/>
            <a:ext cx="4356000" cy="3733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POSSIBILITA’ DI FORMARSI  COSTANTEMENTE E LAVORARE PER MIGLIORARE LE PROPRIE COMPETENZE E CAPAC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24000" y="2301840"/>
            <a:ext cx="4176720" cy="3287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QUANTO IL PROPRIO GRUPPO DI LAVORO/REPARTO SIA COESO E ABBIA UNA FORTE IDENTITA’ DI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Callout con freccia in giù 4"/>
          <p:cNvSpPr/>
          <p:nvPr/>
        </p:nvSpPr>
        <p:spPr>
          <a:xfrm>
            <a:off x="428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ESIONE DEL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000760" y="2287440"/>
            <a:ext cx="3857400" cy="416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AMBIAMENTI POSITIVI/NEGATIVI RIGUARDANT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qu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sicurez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comunic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’innov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Callout con freccia in giù 6"/>
          <p:cNvSpPr/>
          <p:nvPr/>
        </p:nvSpPr>
        <p:spPr>
          <a:xfrm>
            <a:off x="5214960" y="107172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MBIA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1819440" y="71280"/>
            <a:ext cx="568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 FASI DEL CHECK-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50920" y="987480"/>
            <a:ext cx="8750160" cy="5084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reazione del gruppo di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ianificazione del process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mozione del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alisi (O.C.S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esentazione e diffusione dei risulta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gettazione e realizzazione dei cambiam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 di follow-u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187280" y="260280"/>
            <a:ext cx="6697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SOMMINISTRA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39640" y="1197000"/>
            <a:ext cx="8209080" cy="2669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compilazione è collettiva, organizzata in grup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lla definizione dei gruppi, è necessario tenere conto della location e dei turni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somministrazione dei questionari deve avvenire durante l’orario di lavor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39640" y="1484280"/>
            <a:ext cx="8066160" cy="3632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l foglio di risposta non ci sono dati personal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compilazione è 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l foglio di risposta è inserito dal compilatore in una busta anonim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 buste sono raccolte tutte insieme al termine della somministr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ssuno ha accesso alle buste che rimangono sigillate sino all’inserimento dei dati nel programma d’elabor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po l’inserimento dei dati, i fogli di risposta sono  distrut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71640" y="404640"/>
            <a:ext cx="7345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ZIA DELL’ANONIMA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900000" y="44280"/>
            <a:ext cx="750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 RISULTAT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4920" y="1484280"/>
            <a:ext cx="360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CAMP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LETTURA DEL PROFIL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E AREE CRIT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 PUNTI DI FOR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PROFILI PER SOTTOGRUPP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3346560" y="155736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3348000" y="249408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348000" y="35002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3348000" y="436572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3348000" y="53020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572000" y="134136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mero e caratteristich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i rispondent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4643280" y="2276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amento di tutte le dimension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spetto al campione normativ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4572000" y="3284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ree dell’organizzazion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ù a rischio e le aree “deboli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4572000" y="422100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processi di gestione sui qual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può fare leva per l’interven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4572000" y="508464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differenze tra i sottogrupp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i nell’organizzazion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4788000" y="2276640"/>
            <a:ext cx="3751200" cy="2467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INTERVENTO PIÙ EFFICACE È QUELLO CHE AGISC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 PIÙ LIVELL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E SONO TRA LORO STRETTAMENTE INTERCONNESS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252360" y="2637000"/>
            <a:ext cx="3959280" cy="2519280"/>
            <a:chOff x="252360" y="2637000"/>
            <a:chExt cx="3959280" cy="2519280"/>
          </a:xfrm>
        </p:grpSpPr>
        <p:sp>
          <p:nvSpPr>
            <p:cNvPr id="415" name="Oval 12"/>
            <p:cNvSpPr/>
            <p:nvPr/>
          </p:nvSpPr>
          <p:spPr>
            <a:xfrm>
              <a:off x="252360" y="2637000"/>
              <a:ext cx="3959280" cy="25192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757080" y="3141720"/>
              <a:ext cx="2880000" cy="151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1333440" y="3500280"/>
              <a:ext cx="1800360" cy="792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Text Box 13"/>
            <p:cNvSpPr/>
            <p:nvPr/>
          </p:nvSpPr>
          <p:spPr>
            <a:xfrm>
              <a:off x="1620720" y="3213000"/>
              <a:ext cx="1441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Il grupp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Text Box 14"/>
            <p:cNvSpPr/>
            <p:nvPr/>
          </p:nvSpPr>
          <p:spPr>
            <a:xfrm>
              <a:off x="1333440" y="2781360"/>
              <a:ext cx="1944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’Organizzazion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Text Box 16"/>
          <p:cNvSpPr/>
          <p:nvPr/>
        </p:nvSpPr>
        <p:spPr>
          <a:xfrm>
            <a:off x="1835280" y="333360"/>
            <a:ext cx="5184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’INTERVEN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1116000" y="44280"/>
            <a:ext cx="6985080" cy="10274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404640"/>
            <a:ext cx="70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 NELLE MANS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uppo 11"/>
          <p:cNvGrpSpPr/>
          <p:nvPr/>
        </p:nvGrpSpPr>
        <p:grpSpPr>
          <a:xfrm>
            <a:off x="34920" y="1714680"/>
            <a:ext cx="9037800" cy="4138560"/>
            <a:chOff x="34920" y="1714680"/>
            <a:chExt cx="9037800" cy="4138560"/>
          </a:xfrm>
        </p:grpSpPr>
        <p:sp>
          <p:nvSpPr>
            <p:cNvPr id="162" name="AutoShape 22"/>
            <p:cNvSpPr/>
            <p:nvPr/>
          </p:nvSpPr>
          <p:spPr>
            <a:xfrm>
              <a:off x="36360" y="171468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Biolog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3132000" y="18590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e contagio malattie infet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AutoShape 24"/>
            <p:cNvSpPr/>
            <p:nvPr/>
          </p:nvSpPr>
          <p:spPr>
            <a:xfrm>
              <a:off x="34920" y="28688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Chi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3132000" y="2795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intossicazioni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34920" y="402120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nerget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3132000" y="41594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AutoShape 28"/>
            <p:cNvSpPr/>
            <p:nvPr/>
          </p:nvSpPr>
          <p:spPr>
            <a:xfrm>
              <a:off x="34920" y="50990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rgono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3132000" y="5027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cronico degenera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900000" y="1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E DEL RISCHIO BIOLOGICO NELLE ATTIVITA’ ASSISTENZI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1197000"/>
            <a:ext cx="3851280" cy="107964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agenti biolog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067280" y="1311120"/>
            <a:ext cx="482580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isi microbiologiche e su campioni biologic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4920" y="263700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ggio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abilità contag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067280" y="2771640"/>
            <a:ext cx="4825800" cy="3225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diretti su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iguità con i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 di materiali infet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su materiali e strutture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ulizie e manutenzio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01960" y="907920"/>
            <a:ext cx="5148000" cy="5253120"/>
          </a:xfrm>
          <a:custGeom>
            <a:avLst/>
            <a:gdLst>
              <a:gd name="textAreaLeft" fmla="*/ 0 w 5148000"/>
              <a:gd name="textAreaRight" fmla="*/ 5148360 w 5148000"/>
              <a:gd name="textAreaTop" fmla="*/ 0 h 5253120"/>
              <a:gd name="textAreaBottom" fmla="*/ 5253480 h 5253120"/>
            </a:gdLst>
            <a:ahLst/>
            <a:rect l="textAreaLeft" t="textAreaTop" r="textAreaRight" b="textAreaBottom"/>
            <a:pathLst>
              <a:path w="3243" h="3309">
                <a:moveTo>
                  <a:pt x="1235" y="691"/>
                </a:moveTo>
                <a:lnTo>
                  <a:pt x="1268" y="653"/>
                </a:lnTo>
                <a:lnTo>
                  <a:pt x="1291" y="618"/>
                </a:lnTo>
                <a:lnTo>
                  <a:pt x="1303" y="578"/>
                </a:lnTo>
                <a:lnTo>
                  <a:pt x="1303" y="526"/>
                </a:lnTo>
                <a:lnTo>
                  <a:pt x="1288" y="468"/>
                </a:lnTo>
                <a:lnTo>
                  <a:pt x="1275" y="418"/>
                </a:lnTo>
                <a:lnTo>
                  <a:pt x="1258" y="357"/>
                </a:lnTo>
                <a:lnTo>
                  <a:pt x="1250" y="291"/>
                </a:lnTo>
                <a:lnTo>
                  <a:pt x="1258" y="251"/>
                </a:lnTo>
                <a:lnTo>
                  <a:pt x="1270" y="202"/>
                </a:lnTo>
                <a:lnTo>
                  <a:pt x="1296" y="150"/>
                </a:lnTo>
                <a:lnTo>
                  <a:pt x="1331" y="101"/>
                </a:lnTo>
                <a:lnTo>
                  <a:pt x="1376" y="61"/>
                </a:lnTo>
                <a:lnTo>
                  <a:pt x="1417" y="30"/>
                </a:lnTo>
                <a:lnTo>
                  <a:pt x="1472" y="11"/>
                </a:lnTo>
                <a:lnTo>
                  <a:pt x="1538" y="2"/>
                </a:lnTo>
                <a:lnTo>
                  <a:pt x="1609" y="0"/>
                </a:lnTo>
                <a:lnTo>
                  <a:pt x="1705" y="0"/>
                </a:lnTo>
                <a:lnTo>
                  <a:pt x="1781" y="7"/>
                </a:lnTo>
                <a:lnTo>
                  <a:pt x="1824" y="21"/>
                </a:lnTo>
                <a:lnTo>
                  <a:pt x="1856" y="39"/>
                </a:lnTo>
                <a:lnTo>
                  <a:pt x="1892" y="61"/>
                </a:lnTo>
                <a:lnTo>
                  <a:pt x="1927" y="94"/>
                </a:lnTo>
                <a:lnTo>
                  <a:pt x="1960" y="136"/>
                </a:lnTo>
                <a:lnTo>
                  <a:pt x="1985" y="174"/>
                </a:lnTo>
                <a:lnTo>
                  <a:pt x="1998" y="206"/>
                </a:lnTo>
                <a:lnTo>
                  <a:pt x="2008" y="263"/>
                </a:lnTo>
                <a:lnTo>
                  <a:pt x="2008" y="312"/>
                </a:lnTo>
                <a:lnTo>
                  <a:pt x="2000" y="362"/>
                </a:lnTo>
                <a:lnTo>
                  <a:pt x="1990" y="399"/>
                </a:lnTo>
                <a:lnTo>
                  <a:pt x="1978" y="460"/>
                </a:lnTo>
                <a:lnTo>
                  <a:pt x="1960" y="524"/>
                </a:lnTo>
                <a:lnTo>
                  <a:pt x="1952" y="564"/>
                </a:lnTo>
                <a:lnTo>
                  <a:pt x="1965" y="604"/>
                </a:lnTo>
                <a:lnTo>
                  <a:pt x="1980" y="632"/>
                </a:lnTo>
                <a:lnTo>
                  <a:pt x="2008" y="670"/>
                </a:lnTo>
                <a:lnTo>
                  <a:pt x="2048" y="700"/>
                </a:lnTo>
                <a:lnTo>
                  <a:pt x="2086" y="726"/>
                </a:lnTo>
                <a:lnTo>
                  <a:pt x="2142" y="747"/>
                </a:lnTo>
                <a:lnTo>
                  <a:pt x="2198" y="762"/>
                </a:lnTo>
                <a:lnTo>
                  <a:pt x="2251" y="773"/>
                </a:lnTo>
                <a:lnTo>
                  <a:pt x="2306" y="780"/>
                </a:lnTo>
                <a:lnTo>
                  <a:pt x="2364" y="794"/>
                </a:lnTo>
                <a:lnTo>
                  <a:pt x="2410" y="809"/>
                </a:lnTo>
                <a:lnTo>
                  <a:pt x="2445" y="825"/>
                </a:lnTo>
                <a:lnTo>
                  <a:pt x="2473" y="844"/>
                </a:lnTo>
                <a:lnTo>
                  <a:pt x="2493" y="865"/>
                </a:lnTo>
                <a:lnTo>
                  <a:pt x="2508" y="891"/>
                </a:lnTo>
                <a:lnTo>
                  <a:pt x="2521" y="921"/>
                </a:lnTo>
                <a:lnTo>
                  <a:pt x="2526" y="950"/>
                </a:lnTo>
                <a:lnTo>
                  <a:pt x="2531" y="976"/>
                </a:lnTo>
                <a:lnTo>
                  <a:pt x="2531" y="1011"/>
                </a:lnTo>
                <a:lnTo>
                  <a:pt x="2526" y="1051"/>
                </a:lnTo>
                <a:lnTo>
                  <a:pt x="2526" y="1081"/>
                </a:lnTo>
                <a:lnTo>
                  <a:pt x="2534" y="1119"/>
                </a:lnTo>
                <a:lnTo>
                  <a:pt x="2551" y="1152"/>
                </a:lnTo>
                <a:lnTo>
                  <a:pt x="2571" y="1180"/>
                </a:lnTo>
                <a:lnTo>
                  <a:pt x="2597" y="1201"/>
                </a:lnTo>
                <a:lnTo>
                  <a:pt x="2630" y="1225"/>
                </a:lnTo>
                <a:lnTo>
                  <a:pt x="2662" y="1239"/>
                </a:lnTo>
                <a:lnTo>
                  <a:pt x="2713" y="1248"/>
                </a:lnTo>
                <a:lnTo>
                  <a:pt x="2756" y="1253"/>
                </a:lnTo>
                <a:lnTo>
                  <a:pt x="2796" y="1255"/>
                </a:lnTo>
                <a:lnTo>
                  <a:pt x="2842" y="1253"/>
                </a:lnTo>
                <a:lnTo>
                  <a:pt x="2897" y="1248"/>
                </a:lnTo>
                <a:lnTo>
                  <a:pt x="2940" y="1246"/>
                </a:lnTo>
                <a:lnTo>
                  <a:pt x="2983" y="1241"/>
                </a:lnTo>
                <a:lnTo>
                  <a:pt x="3024" y="1239"/>
                </a:lnTo>
                <a:lnTo>
                  <a:pt x="3072" y="1241"/>
                </a:lnTo>
                <a:lnTo>
                  <a:pt x="3097" y="1246"/>
                </a:lnTo>
                <a:lnTo>
                  <a:pt x="3127" y="1253"/>
                </a:lnTo>
                <a:lnTo>
                  <a:pt x="3155" y="1267"/>
                </a:lnTo>
                <a:lnTo>
                  <a:pt x="3185" y="1288"/>
                </a:lnTo>
                <a:lnTo>
                  <a:pt x="3208" y="1312"/>
                </a:lnTo>
                <a:lnTo>
                  <a:pt x="3226" y="1347"/>
                </a:lnTo>
                <a:lnTo>
                  <a:pt x="3233" y="1378"/>
                </a:lnTo>
                <a:lnTo>
                  <a:pt x="3238" y="1415"/>
                </a:lnTo>
                <a:lnTo>
                  <a:pt x="3243" y="1484"/>
                </a:lnTo>
                <a:lnTo>
                  <a:pt x="3241" y="1564"/>
                </a:lnTo>
                <a:lnTo>
                  <a:pt x="3243" y="1648"/>
                </a:lnTo>
                <a:lnTo>
                  <a:pt x="3236" y="1747"/>
                </a:lnTo>
                <a:lnTo>
                  <a:pt x="3228" y="1815"/>
                </a:lnTo>
                <a:lnTo>
                  <a:pt x="3221" y="1869"/>
                </a:lnTo>
                <a:lnTo>
                  <a:pt x="3208" y="1900"/>
                </a:lnTo>
                <a:lnTo>
                  <a:pt x="3188" y="1928"/>
                </a:lnTo>
                <a:lnTo>
                  <a:pt x="3165" y="1947"/>
                </a:lnTo>
                <a:lnTo>
                  <a:pt x="3135" y="1963"/>
                </a:lnTo>
                <a:lnTo>
                  <a:pt x="3099" y="1973"/>
                </a:lnTo>
                <a:lnTo>
                  <a:pt x="3069" y="1980"/>
                </a:lnTo>
                <a:lnTo>
                  <a:pt x="3006" y="1982"/>
                </a:lnTo>
                <a:lnTo>
                  <a:pt x="2950" y="1980"/>
                </a:lnTo>
                <a:lnTo>
                  <a:pt x="2905" y="1973"/>
                </a:lnTo>
                <a:lnTo>
                  <a:pt x="2864" y="1970"/>
                </a:lnTo>
                <a:lnTo>
                  <a:pt x="2819" y="1968"/>
                </a:lnTo>
                <a:lnTo>
                  <a:pt x="2779" y="1968"/>
                </a:lnTo>
                <a:lnTo>
                  <a:pt x="2743" y="1970"/>
                </a:lnTo>
                <a:lnTo>
                  <a:pt x="2705" y="1973"/>
                </a:lnTo>
                <a:lnTo>
                  <a:pt x="2660" y="1985"/>
                </a:lnTo>
                <a:lnTo>
                  <a:pt x="2635" y="1994"/>
                </a:lnTo>
                <a:lnTo>
                  <a:pt x="2612" y="2003"/>
                </a:lnTo>
                <a:lnTo>
                  <a:pt x="2582" y="2022"/>
                </a:lnTo>
                <a:lnTo>
                  <a:pt x="2561" y="2046"/>
                </a:lnTo>
                <a:lnTo>
                  <a:pt x="2546" y="2067"/>
                </a:lnTo>
                <a:lnTo>
                  <a:pt x="2531" y="2093"/>
                </a:lnTo>
                <a:lnTo>
                  <a:pt x="2523" y="2119"/>
                </a:lnTo>
                <a:lnTo>
                  <a:pt x="2521" y="2147"/>
                </a:lnTo>
                <a:lnTo>
                  <a:pt x="2523" y="2177"/>
                </a:lnTo>
                <a:lnTo>
                  <a:pt x="2523" y="2229"/>
                </a:lnTo>
                <a:lnTo>
                  <a:pt x="2521" y="2283"/>
                </a:lnTo>
                <a:lnTo>
                  <a:pt x="2506" y="2323"/>
                </a:lnTo>
                <a:lnTo>
                  <a:pt x="2491" y="2356"/>
                </a:lnTo>
                <a:lnTo>
                  <a:pt x="2468" y="2380"/>
                </a:lnTo>
                <a:lnTo>
                  <a:pt x="2435" y="2398"/>
                </a:lnTo>
                <a:lnTo>
                  <a:pt x="2402" y="2415"/>
                </a:lnTo>
                <a:lnTo>
                  <a:pt x="2364" y="2424"/>
                </a:lnTo>
                <a:lnTo>
                  <a:pt x="2316" y="2434"/>
                </a:lnTo>
                <a:lnTo>
                  <a:pt x="2276" y="2445"/>
                </a:lnTo>
                <a:lnTo>
                  <a:pt x="2228" y="2453"/>
                </a:lnTo>
                <a:lnTo>
                  <a:pt x="2187" y="2460"/>
                </a:lnTo>
                <a:lnTo>
                  <a:pt x="2142" y="2469"/>
                </a:lnTo>
                <a:lnTo>
                  <a:pt x="2107" y="2485"/>
                </a:lnTo>
                <a:lnTo>
                  <a:pt x="2066" y="2502"/>
                </a:lnTo>
                <a:lnTo>
                  <a:pt x="2028" y="2523"/>
                </a:lnTo>
                <a:lnTo>
                  <a:pt x="2000" y="2551"/>
                </a:lnTo>
                <a:lnTo>
                  <a:pt x="1975" y="2584"/>
                </a:lnTo>
                <a:lnTo>
                  <a:pt x="1955" y="2624"/>
                </a:lnTo>
                <a:lnTo>
                  <a:pt x="1950" y="2660"/>
                </a:lnTo>
                <a:lnTo>
                  <a:pt x="1952" y="2699"/>
                </a:lnTo>
                <a:lnTo>
                  <a:pt x="1960" y="2737"/>
                </a:lnTo>
                <a:lnTo>
                  <a:pt x="1973" y="2777"/>
                </a:lnTo>
                <a:lnTo>
                  <a:pt x="1983" y="2822"/>
                </a:lnTo>
                <a:lnTo>
                  <a:pt x="1990" y="2862"/>
                </a:lnTo>
                <a:lnTo>
                  <a:pt x="2000" y="2914"/>
                </a:lnTo>
                <a:lnTo>
                  <a:pt x="2000" y="2965"/>
                </a:lnTo>
                <a:lnTo>
                  <a:pt x="1988" y="3017"/>
                </a:lnTo>
                <a:lnTo>
                  <a:pt x="1975" y="3057"/>
                </a:lnTo>
                <a:lnTo>
                  <a:pt x="1960" y="3097"/>
                </a:lnTo>
                <a:lnTo>
                  <a:pt x="1940" y="3135"/>
                </a:lnTo>
                <a:lnTo>
                  <a:pt x="1912" y="3182"/>
                </a:lnTo>
                <a:lnTo>
                  <a:pt x="1882" y="3212"/>
                </a:lnTo>
                <a:lnTo>
                  <a:pt x="1856" y="3233"/>
                </a:lnTo>
                <a:lnTo>
                  <a:pt x="1824" y="3259"/>
                </a:lnTo>
                <a:lnTo>
                  <a:pt x="1788" y="3283"/>
                </a:lnTo>
                <a:lnTo>
                  <a:pt x="1755" y="3295"/>
                </a:lnTo>
                <a:lnTo>
                  <a:pt x="1725" y="3302"/>
                </a:lnTo>
                <a:lnTo>
                  <a:pt x="1675" y="3306"/>
                </a:lnTo>
                <a:lnTo>
                  <a:pt x="1616" y="3309"/>
                </a:lnTo>
                <a:lnTo>
                  <a:pt x="1546" y="3306"/>
                </a:lnTo>
                <a:lnTo>
                  <a:pt x="1513" y="3306"/>
                </a:lnTo>
                <a:lnTo>
                  <a:pt x="1470" y="3299"/>
                </a:lnTo>
                <a:lnTo>
                  <a:pt x="1424" y="3287"/>
                </a:lnTo>
                <a:lnTo>
                  <a:pt x="1384" y="3266"/>
                </a:lnTo>
                <a:lnTo>
                  <a:pt x="1359" y="3247"/>
                </a:lnTo>
                <a:lnTo>
                  <a:pt x="1331" y="3222"/>
                </a:lnTo>
                <a:lnTo>
                  <a:pt x="1308" y="3198"/>
                </a:lnTo>
                <a:lnTo>
                  <a:pt x="1286" y="3168"/>
                </a:lnTo>
                <a:lnTo>
                  <a:pt x="1268" y="3137"/>
                </a:lnTo>
                <a:lnTo>
                  <a:pt x="1253" y="3099"/>
                </a:lnTo>
                <a:lnTo>
                  <a:pt x="1245" y="3059"/>
                </a:lnTo>
                <a:lnTo>
                  <a:pt x="1243" y="3029"/>
                </a:lnTo>
                <a:lnTo>
                  <a:pt x="1243" y="2986"/>
                </a:lnTo>
                <a:lnTo>
                  <a:pt x="1245" y="2951"/>
                </a:lnTo>
                <a:lnTo>
                  <a:pt x="1258" y="2914"/>
                </a:lnTo>
                <a:lnTo>
                  <a:pt x="1268" y="2869"/>
                </a:lnTo>
                <a:lnTo>
                  <a:pt x="1280" y="2826"/>
                </a:lnTo>
                <a:lnTo>
                  <a:pt x="1288" y="2789"/>
                </a:lnTo>
                <a:lnTo>
                  <a:pt x="1291" y="2754"/>
                </a:lnTo>
                <a:lnTo>
                  <a:pt x="1288" y="2725"/>
                </a:lnTo>
                <a:lnTo>
                  <a:pt x="1280" y="2697"/>
                </a:lnTo>
                <a:lnTo>
                  <a:pt x="1260" y="2662"/>
                </a:lnTo>
                <a:lnTo>
                  <a:pt x="1240" y="2638"/>
                </a:lnTo>
                <a:lnTo>
                  <a:pt x="1215" y="2612"/>
                </a:lnTo>
                <a:lnTo>
                  <a:pt x="1187" y="2594"/>
                </a:lnTo>
                <a:lnTo>
                  <a:pt x="1159" y="2575"/>
                </a:lnTo>
                <a:lnTo>
                  <a:pt x="1119" y="2561"/>
                </a:lnTo>
                <a:lnTo>
                  <a:pt x="1083" y="2551"/>
                </a:lnTo>
                <a:lnTo>
                  <a:pt x="1038" y="2542"/>
                </a:lnTo>
                <a:lnTo>
                  <a:pt x="998" y="2537"/>
                </a:lnTo>
                <a:lnTo>
                  <a:pt x="960" y="2528"/>
                </a:lnTo>
                <a:lnTo>
                  <a:pt x="914" y="2518"/>
                </a:lnTo>
                <a:lnTo>
                  <a:pt x="876" y="2504"/>
                </a:lnTo>
                <a:lnTo>
                  <a:pt x="831" y="2493"/>
                </a:lnTo>
                <a:lnTo>
                  <a:pt x="795" y="2478"/>
                </a:lnTo>
                <a:lnTo>
                  <a:pt x="768" y="2457"/>
                </a:lnTo>
                <a:lnTo>
                  <a:pt x="745" y="2429"/>
                </a:lnTo>
                <a:lnTo>
                  <a:pt x="730" y="2394"/>
                </a:lnTo>
                <a:lnTo>
                  <a:pt x="717" y="2347"/>
                </a:lnTo>
                <a:lnTo>
                  <a:pt x="715" y="2309"/>
                </a:lnTo>
                <a:lnTo>
                  <a:pt x="717" y="2267"/>
                </a:lnTo>
                <a:lnTo>
                  <a:pt x="722" y="2234"/>
                </a:lnTo>
                <a:lnTo>
                  <a:pt x="717" y="2194"/>
                </a:lnTo>
                <a:lnTo>
                  <a:pt x="704" y="2163"/>
                </a:lnTo>
                <a:lnTo>
                  <a:pt x="682" y="2130"/>
                </a:lnTo>
                <a:lnTo>
                  <a:pt x="659" y="2109"/>
                </a:lnTo>
                <a:lnTo>
                  <a:pt x="631" y="2088"/>
                </a:lnTo>
                <a:lnTo>
                  <a:pt x="593" y="2074"/>
                </a:lnTo>
                <a:lnTo>
                  <a:pt x="550" y="2060"/>
                </a:lnTo>
                <a:lnTo>
                  <a:pt x="505" y="2055"/>
                </a:lnTo>
                <a:lnTo>
                  <a:pt x="467" y="2050"/>
                </a:lnTo>
                <a:lnTo>
                  <a:pt x="424" y="2050"/>
                </a:lnTo>
                <a:lnTo>
                  <a:pt x="386" y="2055"/>
                </a:lnTo>
                <a:lnTo>
                  <a:pt x="348" y="2057"/>
                </a:lnTo>
                <a:lnTo>
                  <a:pt x="310" y="2062"/>
                </a:lnTo>
                <a:lnTo>
                  <a:pt x="272" y="2067"/>
                </a:lnTo>
                <a:lnTo>
                  <a:pt x="209" y="2067"/>
                </a:lnTo>
                <a:lnTo>
                  <a:pt x="169" y="2064"/>
                </a:lnTo>
                <a:lnTo>
                  <a:pt x="126" y="2055"/>
                </a:lnTo>
                <a:lnTo>
                  <a:pt x="96" y="2041"/>
                </a:lnTo>
                <a:lnTo>
                  <a:pt x="63" y="2017"/>
                </a:lnTo>
                <a:lnTo>
                  <a:pt x="40" y="1992"/>
                </a:lnTo>
                <a:lnTo>
                  <a:pt x="25" y="1963"/>
                </a:lnTo>
                <a:lnTo>
                  <a:pt x="7" y="1909"/>
                </a:lnTo>
                <a:lnTo>
                  <a:pt x="5" y="1853"/>
                </a:lnTo>
                <a:lnTo>
                  <a:pt x="2" y="1796"/>
                </a:lnTo>
                <a:lnTo>
                  <a:pt x="0" y="1726"/>
                </a:lnTo>
                <a:lnTo>
                  <a:pt x="5" y="1665"/>
                </a:lnTo>
                <a:lnTo>
                  <a:pt x="7" y="1599"/>
                </a:lnTo>
                <a:lnTo>
                  <a:pt x="10" y="1540"/>
                </a:lnTo>
                <a:lnTo>
                  <a:pt x="15" y="1479"/>
                </a:lnTo>
                <a:lnTo>
                  <a:pt x="22" y="1432"/>
                </a:lnTo>
                <a:lnTo>
                  <a:pt x="30" y="1380"/>
                </a:lnTo>
                <a:lnTo>
                  <a:pt x="40" y="1340"/>
                </a:lnTo>
                <a:lnTo>
                  <a:pt x="55" y="1314"/>
                </a:lnTo>
                <a:lnTo>
                  <a:pt x="78" y="1288"/>
                </a:lnTo>
                <a:lnTo>
                  <a:pt x="101" y="1272"/>
                </a:lnTo>
                <a:lnTo>
                  <a:pt x="131" y="1253"/>
                </a:lnTo>
                <a:lnTo>
                  <a:pt x="159" y="1248"/>
                </a:lnTo>
                <a:lnTo>
                  <a:pt x="194" y="1241"/>
                </a:lnTo>
                <a:lnTo>
                  <a:pt x="240" y="1239"/>
                </a:lnTo>
                <a:lnTo>
                  <a:pt x="280" y="1241"/>
                </a:lnTo>
                <a:lnTo>
                  <a:pt x="336" y="1248"/>
                </a:lnTo>
                <a:lnTo>
                  <a:pt x="384" y="1251"/>
                </a:lnTo>
                <a:lnTo>
                  <a:pt x="424" y="1253"/>
                </a:lnTo>
                <a:lnTo>
                  <a:pt x="480" y="1255"/>
                </a:lnTo>
                <a:lnTo>
                  <a:pt x="538" y="1248"/>
                </a:lnTo>
                <a:lnTo>
                  <a:pt x="586" y="1239"/>
                </a:lnTo>
                <a:lnTo>
                  <a:pt x="631" y="1223"/>
                </a:lnTo>
                <a:lnTo>
                  <a:pt x="662" y="1206"/>
                </a:lnTo>
                <a:lnTo>
                  <a:pt x="692" y="1180"/>
                </a:lnTo>
                <a:lnTo>
                  <a:pt x="715" y="1147"/>
                </a:lnTo>
                <a:lnTo>
                  <a:pt x="730" y="1114"/>
                </a:lnTo>
                <a:lnTo>
                  <a:pt x="735" y="1079"/>
                </a:lnTo>
                <a:lnTo>
                  <a:pt x="732" y="1053"/>
                </a:lnTo>
                <a:lnTo>
                  <a:pt x="730" y="1004"/>
                </a:lnTo>
                <a:lnTo>
                  <a:pt x="732" y="954"/>
                </a:lnTo>
                <a:lnTo>
                  <a:pt x="742" y="917"/>
                </a:lnTo>
                <a:lnTo>
                  <a:pt x="755" y="881"/>
                </a:lnTo>
                <a:lnTo>
                  <a:pt x="773" y="856"/>
                </a:lnTo>
                <a:lnTo>
                  <a:pt x="808" y="830"/>
                </a:lnTo>
                <a:lnTo>
                  <a:pt x="846" y="811"/>
                </a:lnTo>
                <a:lnTo>
                  <a:pt x="894" y="797"/>
                </a:lnTo>
                <a:lnTo>
                  <a:pt x="942" y="785"/>
                </a:lnTo>
                <a:lnTo>
                  <a:pt x="982" y="776"/>
                </a:lnTo>
                <a:lnTo>
                  <a:pt x="1033" y="769"/>
                </a:lnTo>
                <a:lnTo>
                  <a:pt x="1081" y="759"/>
                </a:lnTo>
                <a:lnTo>
                  <a:pt x="1136" y="745"/>
                </a:lnTo>
                <a:lnTo>
                  <a:pt x="1190" y="724"/>
                </a:lnTo>
                <a:lnTo>
                  <a:pt x="1235" y="691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0" y="29322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di contag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5"/>
          <p:cNvSpPr/>
          <p:nvPr/>
        </p:nvSpPr>
        <p:spPr>
          <a:xfrm>
            <a:off x="4632480" y="-27000"/>
            <a:ext cx="4547880" cy="4224240"/>
          </a:xfrm>
          <a:custGeom>
            <a:avLst/>
            <a:gdLst>
              <a:gd name="textAreaLeft" fmla="*/ 0 w 4547880"/>
              <a:gd name="textAreaRight" fmla="*/ 4548240 w 4547880"/>
              <a:gd name="textAreaTop" fmla="*/ 0 h 4224240"/>
              <a:gd name="textAreaBottom" fmla="*/ 4224600 h 4224240"/>
            </a:gdLst>
            <a:ahLst/>
            <a:rect l="textAreaLeft" t="textAreaTop" r="textAreaRight" b="textAreaBottom"/>
            <a:pathLst>
              <a:path w="2913" h="2639">
                <a:moveTo>
                  <a:pt x="0" y="550"/>
                </a:moveTo>
                <a:lnTo>
                  <a:pt x="0" y="0"/>
                </a:lnTo>
                <a:lnTo>
                  <a:pt x="2910" y="0"/>
                </a:lnTo>
                <a:lnTo>
                  <a:pt x="2913" y="2107"/>
                </a:lnTo>
                <a:lnTo>
                  <a:pt x="2660" y="2107"/>
                </a:lnTo>
                <a:lnTo>
                  <a:pt x="2650" y="2126"/>
                </a:lnTo>
                <a:lnTo>
                  <a:pt x="2643" y="2152"/>
                </a:lnTo>
                <a:lnTo>
                  <a:pt x="2643" y="2173"/>
                </a:lnTo>
                <a:lnTo>
                  <a:pt x="2645" y="2199"/>
                </a:lnTo>
                <a:lnTo>
                  <a:pt x="2655" y="2232"/>
                </a:lnTo>
                <a:lnTo>
                  <a:pt x="2665" y="2274"/>
                </a:lnTo>
                <a:lnTo>
                  <a:pt x="2676" y="2302"/>
                </a:lnTo>
                <a:lnTo>
                  <a:pt x="2683" y="2338"/>
                </a:lnTo>
                <a:lnTo>
                  <a:pt x="2688" y="2371"/>
                </a:lnTo>
                <a:lnTo>
                  <a:pt x="2688" y="2404"/>
                </a:lnTo>
                <a:lnTo>
                  <a:pt x="2683" y="2434"/>
                </a:lnTo>
                <a:lnTo>
                  <a:pt x="2676" y="2467"/>
                </a:lnTo>
                <a:lnTo>
                  <a:pt x="2663" y="2498"/>
                </a:lnTo>
                <a:lnTo>
                  <a:pt x="2643" y="2521"/>
                </a:lnTo>
                <a:lnTo>
                  <a:pt x="2615" y="2549"/>
                </a:lnTo>
                <a:lnTo>
                  <a:pt x="2587" y="2570"/>
                </a:lnTo>
                <a:lnTo>
                  <a:pt x="2562" y="2592"/>
                </a:lnTo>
                <a:lnTo>
                  <a:pt x="2532" y="2608"/>
                </a:lnTo>
                <a:lnTo>
                  <a:pt x="2496" y="2620"/>
                </a:lnTo>
                <a:lnTo>
                  <a:pt x="2453" y="2632"/>
                </a:lnTo>
                <a:lnTo>
                  <a:pt x="2413" y="2636"/>
                </a:lnTo>
                <a:lnTo>
                  <a:pt x="2377" y="2639"/>
                </a:lnTo>
                <a:lnTo>
                  <a:pt x="2340" y="2639"/>
                </a:lnTo>
                <a:lnTo>
                  <a:pt x="2304" y="2636"/>
                </a:lnTo>
                <a:lnTo>
                  <a:pt x="2276" y="2632"/>
                </a:lnTo>
                <a:lnTo>
                  <a:pt x="2244" y="2622"/>
                </a:lnTo>
                <a:lnTo>
                  <a:pt x="2211" y="2613"/>
                </a:lnTo>
                <a:lnTo>
                  <a:pt x="2185" y="2599"/>
                </a:lnTo>
                <a:lnTo>
                  <a:pt x="2158" y="2580"/>
                </a:lnTo>
                <a:lnTo>
                  <a:pt x="2132" y="2556"/>
                </a:lnTo>
                <a:lnTo>
                  <a:pt x="2107" y="2531"/>
                </a:lnTo>
                <a:lnTo>
                  <a:pt x="2084" y="2505"/>
                </a:lnTo>
                <a:lnTo>
                  <a:pt x="2067" y="2476"/>
                </a:lnTo>
                <a:lnTo>
                  <a:pt x="2054" y="2441"/>
                </a:lnTo>
                <a:lnTo>
                  <a:pt x="2044" y="2401"/>
                </a:lnTo>
                <a:lnTo>
                  <a:pt x="2044" y="2364"/>
                </a:lnTo>
                <a:lnTo>
                  <a:pt x="2054" y="2326"/>
                </a:lnTo>
                <a:lnTo>
                  <a:pt x="2064" y="2288"/>
                </a:lnTo>
                <a:lnTo>
                  <a:pt x="2074" y="2251"/>
                </a:lnTo>
                <a:lnTo>
                  <a:pt x="2087" y="2208"/>
                </a:lnTo>
                <a:lnTo>
                  <a:pt x="2092" y="2175"/>
                </a:lnTo>
                <a:lnTo>
                  <a:pt x="2092" y="2157"/>
                </a:lnTo>
                <a:lnTo>
                  <a:pt x="2089" y="2140"/>
                </a:lnTo>
                <a:lnTo>
                  <a:pt x="2082" y="2121"/>
                </a:lnTo>
                <a:lnTo>
                  <a:pt x="1597" y="2121"/>
                </a:lnTo>
                <a:lnTo>
                  <a:pt x="1604" y="2041"/>
                </a:lnTo>
                <a:lnTo>
                  <a:pt x="1602" y="1997"/>
                </a:lnTo>
                <a:lnTo>
                  <a:pt x="1597" y="1954"/>
                </a:lnTo>
                <a:lnTo>
                  <a:pt x="1592" y="1914"/>
                </a:lnTo>
                <a:lnTo>
                  <a:pt x="1584" y="1888"/>
                </a:lnTo>
                <a:lnTo>
                  <a:pt x="1572" y="1865"/>
                </a:lnTo>
                <a:lnTo>
                  <a:pt x="1556" y="1844"/>
                </a:lnTo>
                <a:lnTo>
                  <a:pt x="1531" y="1825"/>
                </a:lnTo>
                <a:lnTo>
                  <a:pt x="1503" y="1808"/>
                </a:lnTo>
                <a:lnTo>
                  <a:pt x="1476" y="1799"/>
                </a:lnTo>
                <a:lnTo>
                  <a:pt x="1450" y="1794"/>
                </a:lnTo>
                <a:lnTo>
                  <a:pt x="1407" y="1792"/>
                </a:lnTo>
                <a:lnTo>
                  <a:pt x="1357" y="1792"/>
                </a:lnTo>
                <a:lnTo>
                  <a:pt x="1309" y="1797"/>
                </a:lnTo>
                <a:lnTo>
                  <a:pt x="1256" y="1799"/>
                </a:lnTo>
                <a:lnTo>
                  <a:pt x="1215" y="1804"/>
                </a:lnTo>
                <a:lnTo>
                  <a:pt x="1162" y="1806"/>
                </a:lnTo>
                <a:lnTo>
                  <a:pt x="1119" y="1804"/>
                </a:lnTo>
                <a:lnTo>
                  <a:pt x="1081" y="1799"/>
                </a:lnTo>
                <a:lnTo>
                  <a:pt x="1023" y="1787"/>
                </a:lnTo>
                <a:lnTo>
                  <a:pt x="985" y="1771"/>
                </a:lnTo>
                <a:lnTo>
                  <a:pt x="950" y="1747"/>
                </a:lnTo>
                <a:lnTo>
                  <a:pt x="927" y="1721"/>
                </a:lnTo>
                <a:lnTo>
                  <a:pt x="907" y="1693"/>
                </a:lnTo>
                <a:lnTo>
                  <a:pt x="892" y="1658"/>
                </a:lnTo>
                <a:lnTo>
                  <a:pt x="889" y="1620"/>
                </a:lnTo>
                <a:lnTo>
                  <a:pt x="889" y="1573"/>
                </a:lnTo>
                <a:lnTo>
                  <a:pt x="892" y="1538"/>
                </a:lnTo>
                <a:lnTo>
                  <a:pt x="889" y="1503"/>
                </a:lnTo>
                <a:lnTo>
                  <a:pt x="879" y="1463"/>
                </a:lnTo>
                <a:lnTo>
                  <a:pt x="872" y="1439"/>
                </a:lnTo>
                <a:lnTo>
                  <a:pt x="859" y="1416"/>
                </a:lnTo>
                <a:lnTo>
                  <a:pt x="844" y="1399"/>
                </a:lnTo>
                <a:lnTo>
                  <a:pt x="829" y="1385"/>
                </a:lnTo>
                <a:lnTo>
                  <a:pt x="796" y="1371"/>
                </a:lnTo>
                <a:lnTo>
                  <a:pt x="758" y="1355"/>
                </a:lnTo>
                <a:lnTo>
                  <a:pt x="715" y="1343"/>
                </a:lnTo>
                <a:lnTo>
                  <a:pt x="665" y="1331"/>
                </a:lnTo>
                <a:lnTo>
                  <a:pt x="614" y="1322"/>
                </a:lnTo>
                <a:lnTo>
                  <a:pt x="561" y="1315"/>
                </a:lnTo>
                <a:lnTo>
                  <a:pt x="523" y="1303"/>
                </a:lnTo>
                <a:lnTo>
                  <a:pt x="483" y="1291"/>
                </a:lnTo>
                <a:lnTo>
                  <a:pt x="442" y="1277"/>
                </a:lnTo>
                <a:lnTo>
                  <a:pt x="414" y="1256"/>
                </a:lnTo>
                <a:lnTo>
                  <a:pt x="382" y="1230"/>
                </a:lnTo>
                <a:lnTo>
                  <a:pt x="359" y="1206"/>
                </a:lnTo>
                <a:lnTo>
                  <a:pt x="339" y="1178"/>
                </a:lnTo>
                <a:lnTo>
                  <a:pt x="324" y="1145"/>
                </a:lnTo>
                <a:lnTo>
                  <a:pt x="318" y="1110"/>
                </a:lnTo>
                <a:lnTo>
                  <a:pt x="318" y="1077"/>
                </a:lnTo>
                <a:lnTo>
                  <a:pt x="326" y="1046"/>
                </a:lnTo>
                <a:lnTo>
                  <a:pt x="339" y="1002"/>
                </a:lnTo>
                <a:lnTo>
                  <a:pt x="351" y="957"/>
                </a:lnTo>
                <a:lnTo>
                  <a:pt x="356" y="917"/>
                </a:lnTo>
                <a:lnTo>
                  <a:pt x="366" y="877"/>
                </a:lnTo>
                <a:lnTo>
                  <a:pt x="372" y="837"/>
                </a:lnTo>
                <a:lnTo>
                  <a:pt x="366" y="795"/>
                </a:lnTo>
                <a:lnTo>
                  <a:pt x="356" y="757"/>
                </a:lnTo>
                <a:lnTo>
                  <a:pt x="341" y="720"/>
                </a:lnTo>
                <a:lnTo>
                  <a:pt x="321" y="684"/>
                </a:lnTo>
                <a:lnTo>
                  <a:pt x="298" y="656"/>
                </a:lnTo>
                <a:lnTo>
                  <a:pt x="286" y="640"/>
                </a:lnTo>
                <a:lnTo>
                  <a:pt x="263" y="618"/>
                </a:lnTo>
                <a:lnTo>
                  <a:pt x="240" y="600"/>
                </a:lnTo>
                <a:lnTo>
                  <a:pt x="217" y="585"/>
                </a:lnTo>
                <a:lnTo>
                  <a:pt x="187" y="571"/>
                </a:lnTo>
                <a:lnTo>
                  <a:pt x="157" y="562"/>
                </a:lnTo>
                <a:lnTo>
                  <a:pt x="119" y="553"/>
                </a:lnTo>
                <a:lnTo>
                  <a:pt x="76" y="550"/>
                </a:lnTo>
                <a:lnTo>
                  <a:pt x="38" y="550"/>
                </a:lnTo>
                <a:lnTo>
                  <a:pt x="0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05520" y="-27000"/>
            <a:ext cx="41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boratori di analisi clin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di medicazioni chirurg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pa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odontoia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4537080" y="3375000"/>
            <a:ext cx="4643280" cy="351000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2925" h="2211">
                <a:moveTo>
                  <a:pt x="0" y="1747"/>
                </a:moveTo>
                <a:lnTo>
                  <a:pt x="0" y="2211"/>
                </a:lnTo>
                <a:lnTo>
                  <a:pt x="2925" y="2211"/>
                </a:lnTo>
                <a:lnTo>
                  <a:pt x="2922" y="0"/>
                </a:lnTo>
                <a:lnTo>
                  <a:pt x="2662" y="0"/>
                </a:lnTo>
                <a:lnTo>
                  <a:pt x="2650" y="42"/>
                </a:lnTo>
                <a:lnTo>
                  <a:pt x="2650" y="73"/>
                </a:lnTo>
                <a:lnTo>
                  <a:pt x="2657" y="115"/>
                </a:lnTo>
                <a:lnTo>
                  <a:pt x="2672" y="160"/>
                </a:lnTo>
                <a:lnTo>
                  <a:pt x="2688" y="214"/>
                </a:lnTo>
                <a:lnTo>
                  <a:pt x="2695" y="256"/>
                </a:lnTo>
                <a:lnTo>
                  <a:pt x="2695" y="294"/>
                </a:lnTo>
                <a:lnTo>
                  <a:pt x="2690" y="336"/>
                </a:lnTo>
                <a:lnTo>
                  <a:pt x="2677" y="376"/>
                </a:lnTo>
                <a:lnTo>
                  <a:pt x="2650" y="414"/>
                </a:lnTo>
                <a:lnTo>
                  <a:pt x="2617" y="447"/>
                </a:lnTo>
                <a:lnTo>
                  <a:pt x="2581" y="477"/>
                </a:lnTo>
                <a:lnTo>
                  <a:pt x="2541" y="498"/>
                </a:lnTo>
                <a:lnTo>
                  <a:pt x="2493" y="515"/>
                </a:lnTo>
                <a:lnTo>
                  <a:pt x="2450" y="524"/>
                </a:lnTo>
                <a:lnTo>
                  <a:pt x="2389" y="527"/>
                </a:lnTo>
                <a:lnTo>
                  <a:pt x="2319" y="522"/>
                </a:lnTo>
                <a:lnTo>
                  <a:pt x="2273" y="515"/>
                </a:lnTo>
                <a:lnTo>
                  <a:pt x="2233" y="505"/>
                </a:lnTo>
                <a:lnTo>
                  <a:pt x="2195" y="484"/>
                </a:lnTo>
                <a:lnTo>
                  <a:pt x="2147" y="449"/>
                </a:lnTo>
                <a:lnTo>
                  <a:pt x="2117" y="416"/>
                </a:lnTo>
                <a:lnTo>
                  <a:pt x="2089" y="381"/>
                </a:lnTo>
                <a:lnTo>
                  <a:pt x="2074" y="343"/>
                </a:lnTo>
                <a:lnTo>
                  <a:pt x="2064" y="308"/>
                </a:lnTo>
                <a:lnTo>
                  <a:pt x="2064" y="268"/>
                </a:lnTo>
                <a:lnTo>
                  <a:pt x="2069" y="228"/>
                </a:lnTo>
                <a:lnTo>
                  <a:pt x="2079" y="190"/>
                </a:lnTo>
                <a:lnTo>
                  <a:pt x="2089" y="155"/>
                </a:lnTo>
                <a:lnTo>
                  <a:pt x="2101" y="117"/>
                </a:lnTo>
                <a:lnTo>
                  <a:pt x="2109" y="80"/>
                </a:lnTo>
                <a:lnTo>
                  <a:pt x="2109" y="47"/>
                </a:lnTo>
                <a:lnTo>
                  <a:pt x="2099" y="9"/>
                </a:lnTo>
                <a:lnTo>
                  <a:pt x="1609" y="9"/>
                </a:lnTo>
                <a:lnTo>
                  <a:pt x="1614" y="87"/>
                </a:lnTo>
                <a:lnTo>
                  <a:pt x="1609" y="141"/>
                </a:lnTo>
                <a:lnTo>
                  <a:pt x="1606" y="186"/>
                </a:lnTo>
                <a:lnTo>
                  <a:pt x="1606" y="226"/>
                </a:lnTo>
                <a:lnTo>
                  <a:pt x="1601" y="268"/>
                </a:lnTo>
                <a:lnTo>
                  <a:pt x="1591" y="310"/>
                </a:lnTo>
                <a:lnTo>
                  <a:pt x="1578" y="338"/>
                </a:lnTo>
                <a:lnTo>
                  <a:pt x="1561" y="364"/>
                </a:lnTo>
                <a:lnTo>
                  <a:pt x="1536" y="386"/>
                </a:lnTo>
                <a:lnTo>
                  <a:pt x="1508" y="402"/>
                </a:lnTo>
                <a:lnTo>
                  <a:pt x="1475" y="411"/>
                </a:lnTo>
                <a:lnTo>
                  <a:pt x="1440" y="416"/>
                </a:lnTo>
                <a:lnTo>
                  <a:pt x="1407" y="418"/>
                </a:lnTo>
                <a:lnTo>
                  <a:pt x="1364" y="418"/>
                </a:lnTo>
                <a:lnTo>
                  <a:pt x="1323" y="414"/>
                </a:lnTo>
                <a:lnTo>
                  <a:pt x="1290" y="411"/>
                </a:lnTo>
                <a:lnTo>
                  <a:pt x="1248" y="409"/>
                </a:lnTo>
                <a:lnTo>
                  <a:pt x="1202" y="404"/>
                </a:lnTo>
                <a:lnTo>
                  <a:pt x="1152" y="404"/>
                </a:lnTo>
                <a:lnTo>
                  <a:pt x="1109" y="409"/>
                </a:lnTo>
                <a:lnTo>
                  <a:pt x="1066" y="414"/>
                </a:lnTo>
                <a:lnTo>
                  <a:pt x="1020" y="426"/>
                </a:lnTo>
                <a:lnTo>
                  <a:pt x="987" y="442"/>
                </a:lnTo>
                <a:lnTo>
                  <a:pt x="952" y="463"/>
                </a:lnTo>
                <a:lnTo>
                  <a:pt x="929" y="491"/>
                </a:lnTo>
                <a:lnTo>
                  <a:pt x="906" y="522"/>
                </a:lnTo>
                <a:lnTo>
                  <a:pt x="896" y="553"/>
                </a:lnTo>
                <a:lnTo>
                  <a:pt x="891" y="588"/>
                </a:lnTo>
                <a:lnTo>
                  <a:pt x="896" y="623"/>
                </a:lnTo>
                <a:lnTo>
                  <a:pt x="899" y="661"/>
                </a:lnTo>
                <a:lnTo>
                  <a:pt x="896" y="701"/>
                </a:lnTo>
                <a:lnTo>
                  <a:pt x="889" y="731"/>
                </a:lnTo>
                <a:lnTo>
                  <a:pt x="879" y="764"/>
                </a:lnTo>
                <a:lnTo>
                  <a:pt x="864" y="795"/>
                </a:lnTo>
                <a:lnTo>
                  <a:pt x="843" y="816"/>
                </a:lnTo>
                <a:lnTo>
                  <a:pt x="810" y="837"/>
                </a:lnTo>
                <a:lnTo>
                  <a:pt x="770" y="851"/>
                </a:lnTo>
                <a:lnTo>
                  <a:pt x="730" y="863"/>
                </a:lnTo>
                <a:lnTo>
                  <a:pt x="692" y="872"/>
                </a:lnTo>
                <a:lnTo>
                  <a:pt x="651" y="882"/>
                </a:lnTo>
                <a:lnTo>
                  <a:pt x="598" y="891"/>
                </a:lnTo>
                <a:lnTo>
                  <a:pt x="558" y="898"/>
                </a:lnTo>
                <a:lnTo>
                  <a:pt x="515" y="910"/>
                </a:lnTo>
                <a:lnTo>
                  <a:pt x="480" y="922"/>
                </a:lnTo>
                <a:lnTo>
                  <a:pt x="444" y="936"/>
                </a:lnTo>
                <a:lnTo>
                  <a:pt x="416" y="955"/>
                </a:lnTo>
                <a:lnTo>
                  <a:pt x="391" y="974"/>
                </a:lnTo>
                <a:lnTo>
                  <a:pt x="363" y="1004"/>
                </a:lnTo>
                <a:lnTo>
                  <a:pt x="346" y="1032"/>
                </a:lnTo>
                <a:lnTo>
                  <a:pt x="330" y="1065"/>
                </a:lnTo>
                <a:lnTo>
                  <a:pt x="323" y="1105"/>
                </a:lnTo>
                <a:lnTo>
                  <a:pt x="328" y="1143"/>
                </a:lnTo>
                <a:lnTo>
                  <a:pt x="333" y="1180"/>
                </a:lnTo>
                <a:lnTo>
                  <a:pt x="346" y="1225"/>
                </a:lnTo>
                <a:lnTo>
                  <a:pt x="358" y="1275"/>
                </a:lnTo>
                <a:lnTo>
                  <a:pt x="368" y="1319"/>
                </a:lnTo>
                <a:lnTo>
                  <a:pt x="373" y="1355"/>
                </a:lnTo>
                <a:lnTo>
                  <a:pt x="373" y="1387"/>
                </a:lnTo>
                <a:lnTo>
                  <a:pt x="368" y="1432"/>
                </a:lnTo>
                <a:lnTo>
                  <a:pt x="356" y="1470"/>
                </a:lnTo>
                <a:lnTo>
                  <a:pt x="346" y="1503"/>
                </a:lnTo>
                <a:lnTo>
                  <a:pt x="330" y="1533"/>
                </a:lnTo>
                <a:lnTo>
                  <a:pt x="310" y="1573"/>
                </a:lnTo>
                <a:lnTo>
                  <a:pt x="282" y="1618"/>
                </a:lnTo>
                <a:lnTo>
                  <a:pt x="252" y="1651"/>
                </a:lnTo>
                <a:lnTo>
                  <a:pt x="222" y="1677"/>
                </a:lnTo>
                <a:lnTo>
                  <a:pt x="194" y="1700"/>
                </a:lnTo>
                <a:lnTo>
                  <a:pt x="164" y="1719"/>
                </a:lnTo>
                <a:lnTo>
                  <a:pt x="133" y="1731"/>
                </a:lnTo>
                <a:lnTo>
                  <a:pt x="90" y="1740"/>
                </a:lnTo>
                <a:lnTo>
                  <a:pt x="42" y="1747"/>
                </a:lnTo>
                <a:lnTo>
                  <a:pt x="0" y="1747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651640" y="4395960"/>
            <a:ext cx="36576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scurabi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ffici aperti al pubbl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ocali e vie di transi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-47520" y="-9360"/>
            <a:ext cx="4643280" cy="35096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09640"/>
              <a:gd name="textAreaBottom" fmla="*/ 3510000 h 3509640"/>
            </a:gdLst>
            <a:ahLst/>
            <a:rect l="textAreaLeft" t="textAreaTop" r="textAreaRight" b="textAreaBottom"/>
            <a:pathLst>
              <a:path w="2925" h="2211">
                <a:moveTo>
                  <a:pt x="2925" y="550"/>
                </a:moveTo>
                <a:lnTo>
                  <a:pt x="2925" y="0"/>
                </a:lnTo>
                <a:lnTo>
                  <a:pt x="0" y="0"/>
                </a:lnTo>
                <a:lnTo>
                  <a:pt x="2" y="2211"/>
                </a:lnTo>
                <a:lnTo>
                  <a:pt x="262" y="2211"/>
                </a:lnTo>
                <a:lnTo>
                  <a:pt x="275" y="2168"/>
                </a:lnTo>
                <a:lnTo>
                  <a:pt x="275" y="2138"/>
                </a:lnTo>
                <a:lnTo>
                  <a:pt x="267" y="2095"/>
                </a:lnTo>
                <a:lnTo>
                  <a:pt x="252" y="2051"/>
                </a:lnTo>
                <a:lnTo>
                  <a:pt x="237" y="1997"/>
                </a:lnTo>
                <a:lnTo>
                  <a:pt x="230" y="1954"/>
                </a:lnTo>
                <a:lnTo>
                  <a:pt x="227" y="1917"/>
                </a:lnTo>
                <a:lnTo>
                  <a:pt x="235" y="1874"/>
                </a:lnTo>
                <a:lnTo>
                  <a:pt x="247" y="1834"/>
                </a:lnTo>
                <a:lnTo>
                  <a:pt x="275" y="1794"/>
                </a:lnTo>
                <a:lnTo>
                  <a:pt x="308" y="1764"/>
                </a:lnTo>
                <a:lnTo>
                  <a:pt x="343" y="1733"/>
                </a:lnTo>
                <a:lnTo>
                  <a:pt x="384" y="1712"/>
                </a:lnTo>
                <a:lnTo>
                  <a:pt x="432" y="1693"/>
                </a:lnTo>
                <a:lnTo>
                  <a:pt x="475" y="1686"/>
                </a:lnTo>
                <a:lnTo>
                  <a:pt x="535" y="1684"/>
                </a:lnTo>
                <a:lnTo>
                  <a:pt x="606" y="1689"/>
                </a:lnTo>
                <a:lnTo>
                  <a:pt x="651" y="1693"/>
                </a:lnTo>
                <a:lnTo>
                  <a:pt x="692" y="1705"/>
                </a:lnTo>
                <a:lnTo>
                  <a:pt x="730" y="1726"/>
                </a:lnTo>
                <a:lnTo>
                  <a:pt x="778" y="1761"/>
                </a:lnTo>
                <a:lnTo>
                  <a:pt x="808" y="1794"/>
                </a:lnTo>
                <a:lnTo>
                  <a:pt x="836" y="1830"/>
                </a:lnTo>
                <a:lnTo>
                  <a:pt x="851" y="1867"/>
                </a:lnTo>
                <a:lnTo>
                  <a:pt x="861" y="1903"/>
                </a:lnTo>
                <a:lnTo>
                  <a:pt x="861" y="1943"/>
                </a:lnTo>
                <a:lnTo>
                  <a:pt x="856" y="1983"/>
                </a:lnTo>
                <a:lnTo>
                  <a:pt x="846" y="2020"/>
                </a:lnTo>
                <a:lnTo>
                  <a:pt x="836" y="2055"/>
                </a:lnTo>
                <a:lnTo>
                  <a:pt x="823" y="2093"/>
                </a:lnTo>
                <a:lnTo>
                  <a:pt x="816" y="2131"/>
                </a:lnTo>
                <a:lnTo>
                  <a:pt x="816" y="2164"/>
                </a:lnTo>
                <a:lnTo>
                  <a:pt x="826" y="2201"/>
                </a:lnTo>
                <a:lnTo>
                  <a:pt x="1316" y="2201"/>
                </a:lnTo>
                <a:lnTo>
                  <a:pt x="1311" y="2124"/>
                </a:lnTo>
                <a:lnTo>
                  <a:pt x="1316" y="2067"/>
                </a:lnTo>
                <a:lnTo>
                  <a:pt x="1316" y="2025"/>
                </a:lnTo>
                <a:lnTo>
                  <a:pt x="1318" y="1985"/>
                </a:lnTo>
                <a:lnTo>
                  <a:pt x="1323" y="1943"/>
                </a:lnTo>
                <a:lnTo>
                  <a:pt x="1334" y="1900"/>
                </a:lnTo>
                <a:lnTo>
                  <a:pt x="1346" y="1872"/>
                </a:lnTo>
                <a:lnTo>
                  <a:pt x="1364" y="1846"/>
                </a:lnTo>
                <a:lnTo>
                  <a:pt x="1389" y="1825"/>
                </a:lnTo>
                <a:lnTo>
                  <a:pt x="1417" y="1808"/>
                </a:lnTo>
                <a:lnTo>
                  <a:pt x="1450" y="1799"/>
                </a:lnTo>
                <a:lnTo>
                  <a:pt x="1485" y="1794"/>
                </a:lnTo>
                <a:lnTo>
                  <a:pt x="1518" y="1792"/>
                </a:lnTo>
                <a:lnTo>
                  <a:pt x="1561" y="1792"/>
                </a:lnTo>
                <a:lnTo>
                  <a:pt x="1601" y="1794"/>
                </a:lnTo>
                <a:lnTo>
                  <a:pt x="1634" y="1799"/>
                </a:lnTo>
                <a:lnTo>
                  <a:pt x="1677" y="1801"/>
                </a:lnTo>
                <a:lnTo>
                  <a:pt x="1723" y="1806"/>
                </a:lnTo>
                <a:lnTo>
                  <a:pt x="1773" y="1806"/>
                </a:lnTo>
                <a:lnTo>
                  <a:pt x="1816" y="1801"/>
                </a:lnTo>
                <a:lnTo>
                  <a:pt x="1859" y="1794"/>
                </a:lnTo>
                <a:lnTo>
                  <a:pt x="1905" y="1785"/>
                </a:lnTo>
                <a:lnTo>
                  <a:pt x="1937" y="1769"/>
                </a:lnTo>
                <a:lnTo>
                  <a:pt x="1973" y="1747"/>
                </a:lnTo>
                <a:lnTo>
                  <a:pt x="1995" y="1719"/>
                </a:lnTo>
                <a:lnTo>
                  <a:pt x="2018" y="1689"/>
                </a:lnTo>
                <a:lnTo>
                  <a:pt x="2028" y="1658"/>
                </a:lnTo>
                <a:lnTo>
                  <a:pt x="2033" y="1623"/>
                </a:lnTo>
                <a:lnTo>
                  <a:pt x="2028" y="1587"/>
                </a:lnTo>
                <a:lnTo>
                  <a:pt x="2026" y="1550"/>
                </a:lnTo>
                <a:lnTo>
                  <a:pt x="2028" y="1510"/>
                </a:lnTo>
                <a:lnTo>
                  <a:pt x="2036" y="1479"/>
                </a:lnTo>
                <a:lnTo>
                  <a:pt x="2046" y="1446"/>
                </a:lnTo>
                <a:lnTo>
                  <a:pt x="2061" y="1416"/>
                </a:lnTo>
                <a:lnTo>
                  <a:pt x="2081" y="1395"/>
                </a:lnTo>
                <a:lnTo>
                  <a:pt x="2114" y="1373"/>
                </a:lnTo>
                <a:lnTo>
                  <a:pt x="2155" y="1359"/>
                </a:lnTo>
                <a:lnTo>
                  <a:pt x="2195" y="1348"/>
                </a:lnTo>
                <a:lnTo>
                  <a:pt x="2233" y="1338"/>
                </a:lnTo>
                <a:lnTo>
                  <a:pt x="2273" y="1329"/>
                </a:lnTo>
                <a:lnTo>
                  <a:pt x="2326" y="1319"/>
                </a:lnTo>
                <a:lnTo>
                  <a:pt x="2367" y="1312"/>
                </a:lnTo>
                <a:lnTo>
                  <a:pt x="2410" y="1300"/>
                </a:lnTo>
                <a:lnTo>
                  <a:pt x="2445" y="1289"/>
                </a:lnTo>
                <a:lnTo>
                  <a:pt x="2481" y="1275"/>
                </a:lnTo>
                <a:lnTo>
                  <a:pt x="2508" y="1256"/>
                </a:lnTo>
                <a:lnTo>
                  <a:pt x="2534" y="1237"/>
                </a:lnTo>
                <a:lnTo>
                  <a:pt x="2561" y="1206"/>
                </a:lnTo>
                <a:lnTo>
                  <a:pt x="2579" y="1178"/>
                </a:lnTo>
                <a:lnTo>
                  <a:pt x="2594" y="1145"/>
                </a:lnTo>
                <a:lnTo>
                  <a:pt x="2602" y="1103"/>
                </a:lnTo>
                <a:lnTo>
                  <a:pt x="2597" y="1068"/>
                </a:lnTo>
                <a:lnTo>
                  <a:pt x="2592" y="1030"/>
                </a:lnTo>
                <a:lnTo>
                  <a:pt x="2579" y="985"/>
                </a:lnTo>
                <a:lnTo>
                  <a:pt x="2566" y="936"/>
                </a:lnTo>
                <a:lnTo>
                  <a:pt x="2554" y="891"/>
                </a:lnTo>
                <a:lnTo>
                  <a:pt x="2551" y="856"/>
                </a:lnTo>
                <a:lnTo>
                  <a:pt x="2551" y="823"/>
                </a:lnTo>
                <a:lnTo>
                  <a:pt x="2556" y="778"/>
                </a:lnTo>
                <a:lnTo>
                  <a:pt x="2569" y="741"/>
                </a:lnTo>
                <a:lnTo>
                  <a:pt x="2582" y="712"/>
                </a:lnTo>
                <a:lnTo>
                  <a:pt x="2599" y="684"/>
                </a:lnTo>
                <a:lnTo>
                  <a:pt x="2625" y="654"/>
                </a:lnTo>
                <a:lnTo>
                  <a:pt x="2652" y="623"/>
                </a:lnTo>
                <a:lnTo>
                  <a:pt x="2688" y="597"/>
                </a:lnTo>
                <a:lnTo>
                  <a:pt x="2726" y="576"/>
                </a:lnTo>
                <a:lnTo>
                  <a:pt x="2761" y="564"/>
                </a:lnTo>
                <a:lnTo>
                  <a:pt x="2796" y="555"/>
                </a:lnTo>
                <a:lnTo>
                  <a:pt x="2834" y="550"/>
                </a:lnTo>
                <a:lnTo>
                  <a:pt x="2880" y="550"/>
                </a:lnTo>
                <a:lnTo>
                  <a:pt x="2925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-457200" y="152280"/>
            <a:ext cx="43434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operatori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rapie inten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gnostiche inva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li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parti M.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-47520" y="2703600"/>
            <a:ext cx="4624200" cy="418932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4189320"/>
              <a:gd name="textAreaBottom" fmla="*/ 4189320 h 4189320"/>
            </a:gdLst>
            <a:ahLst/>
            <a:rect l="textAreaLeft" t="textAreaTop" r="textAreaRight" b="textAreaBottom"/>
            <a:pathLst>
              <a:path w="2913" h="2639">
                <a:moveTo>
                  <a:pt x="2913" y="2173"/>
                </a:moveTo>
                <a:lnTo>
                  <a:pt x="2913" y="2639"/>
                </a:lnTo>
                <a:lnTo>
                  <a:pt x="2" y="2639"/>
                </a:lnTo>
                <a:lnTo>
                  <a:pt x="0" y="531"/>
                </a:lnTo>
                <a:lnTo>
                  <a:pt x="252" y="531"/>
                </a:lnTo>
                <a:lnTo>
                  <a:pt x="262" y="512"/>
                </a:lnTo>
                <a:lnTo>
                  <a:pt x="270" y="487"/>
                </a:lnTo>
                <a:lnTo>
                  <a:pt x="270" y="465"/>
                </a:lnTo>
                <a:lnTo>
                  <a:pt x="267" y="440"/>
                </a:lnTo>
                <a:lnTo>
                  <a:pt x="257" y="407"/>
                </a:lnTo>
                <a:lnTo>
                  <a:pt x="247" y="364"/>
                </a:lnTo>
                <a:lnTo>
                  <a:pt x="237" y="336"/>
                </a:lnTo>
                <a:lnTo>
                  <a:pt x="227" y="301"/>
                </a:lnTo>
                <a:lnTo>
                  <a:pt x="225" y="268"/>
                </a:lnTo>
                <a:lnTo>
                  <a:pt x="225" y="235"/>
                </a:lnTo>
                <a:lnTo>
                  <a:pt x="227" y="204"/>
                </a:lnTo>
                <a:lnTo>
                  <a:pt x="237" y="171"/>
                </a:lnTo>
                <a:lnTo>
                  <a:pt x="250" y="141"/>
                </a:lnTo>
                <a:lnTo>
                  <a:pt x="270" y="117"/>
                </a:lnTo>
                <a:lnTo>
                  <a:pt x="298" y="89"/>
                </a:lnTo>
                <a:lnTo>
                  <a:pt x="323" y="68"/>
                </a:lnTo>
                <a:lnTo>
                  <a:pt x="351" y="47"/>
                </a:lnTo>
                <a:lnTo>
                  <a:pt x="381" y="30"/>
                </a:lnTo>
                <a:lnTo>
                  <a:pt x="417" y="16"/>
                </a:lnTo>
                <a:lnTo>
                  <a:pt x="457" y="7"/>
                </a:lnTo>
                <a:lnTo>
                  <a:pt x="500" y="2"/>
                </a:lnTo>
                <a:lnTo>
                  <a:pt x="535" y="0"/>
                </a:lnTo>
                <a:lnTo>
                  <a:pt x="573" y="0"/>
                </a:lnTo>
                <a:lnTo>
                  <a:pt x="609" y="2"/>
                </a:lnTo>
                <a:lnTo>
                  <a:pt x="636" y="7"/>
                </a:lnTo>
                <a:lnTo>
                  <a:pt x="669" y="16"/>
                </a:lnTo>
                <a:lnTo>
                  <a:pt x="702" y="26"/>
                </a:lnTo>
                <a:lnTo>
                  <a:pt x="727" y="40"/>
                </a:lnTo>
                <a:lnTo>
                  <a:pt x="755" y="59"/>
                </a:lnTo>
                <a:lnTo>
                  <a:pt x="780" y="82"/>
                </a:lnTo>
                <a:lnTo>
                  <a:pt x="806" y="108"/>
                </a:lnTo>
                <a:lnTo>
                  <a:pt x="828" y="134"/>
                </a:lnTo>
                <a:lnTo>
                  <a:pt x="846" y="162"/>
                </a:lnTo>
                <a:lnTo>
                  <a:pt x="859" y="197"/>
                </a:lnTo>
                <a:lnTo>
                  <a:pt x="869" y="237"/>
                </a:lnTo>
                <a:lnTo>
                  <a:pt x="869" y="275"/>
                </a:lnTo>
                <a:lnTo>
                  <a:pt x="859" y="313"/>
                </a:lnTo>
                <a:lnTo>
                  <a:pt x="849" y="350"/>
                </a:lnTo>
                <a:lnTo>
                  <a:pt x="838" y="388"/>
                </a:lnTo>
                <a:lnTo>
                  <a:pt x="826" y="430"/>
                </a:lnTo>
                <a:lnTo>
                  <a:pt x="818" y="463"/>
                </a:lnTo>
                <a:lnTo>
                  <a:pt x="818" y="482"/>
                </a:lnTo>
                <a:lnTo>
                  <a:pt x="823" y="498"/>
                </a:lnTo>
                <a:lnTo>
                  <a:pt x="831" y="517"/>
                </a:lnTo>
                <a:lnTo>
                  <a:pt x="1313" y="517"/>
                </a:lnTo>
                <a:lnTo>
                  <a:pt x="1303" y="604"/>
                </a:lnTo>
                <a:lnTo>
                  <a:pt x="1301" y="656"/>
                </a:lnTo>
                <a:lnTo>
                  <a:pt x="1303" y="698"/>
                </a:lnTo>
                <a:lnTo>
                  <a:pt x="1306" y="738"/>
                </a:lnTo>
                <a:lnTo>
                  <a:pt x="1311" y="781"/>
                </a:lnTo>
                <a:lnTo>
                  <a:pt x="1318" y="823"/>
                </a:lnTo>
                <a:lnTo>
                  <a:pt x="1334" y="851"/>
                </a:lnTo>
                <a:lnTo>
                  <a:pt x="1351" y="875"/>
                </a:lnTo>
                <a:lnTo>
                  <a:pt x="1374" y="896"/>
                </a:lnTo>
                <a:lnTo>
                  <a:pt x="1404" y="912"/>
                </a:lnTo>
                <a:lnTo>
                  <a:pt x="1437" y="924"/>
                </a:lnTo>
                <a:lnTo>
                  <a:pt x="1470" y="929"/>
                </a:lnTo>
                <a:lnTo>
                  <a:pt x="1505" y="931"/>
                </a:lnTo>
                <a:lnTo>
                  <a:pt x="1546" y="931"/>
                </a:lnTo>
                <a:lnTo>
                  <a:pt x="1589" y="926"/>
                </a:lnTo>
                <a:lnTo>
                  <a:pt x="1619" y="924"/>
                </a:lnTo>
                <a:lnTo>
                  <a:pt x="1665" y="919"/>
                </a:lnTo>
                <a:lnTo>
                  <a:pt x="1710" y="915"/>
                </a:lnTo>
                <a:lnTo>
                  <a:pt x="1761" y="915"/>
                </a:lnTo>
                <a:lnTo>
                  <a:pt x="1803" y="919"/>
                </a:lnTo>
                <a:lnTo>
                  <a:pt x="1846" y="926"/>
                </a:lnTo>
                <a:lnTo>
                  <a:pt x="1889" y="941"/>
                </a:lnTo>
                <a:lnTo>
                  <a:pt x="1925" y="955"/>
                </a:lnTo>
                <a:lnTo>
                  <a:pt x="1960" y="978"/>
                </a:lnTo>
                <a:lnTo>
                  <a:pt x="1983" y="1004"/>
                </a:lnTo>
                <a:lnTo>
                  <a:pt x="2003" y="1035"/>
                </a:lnTo>
                <a:lnTo>
                  <a:pt x="2016" y="1068"/>
                </a:lnTo>
                <a:lnTo>
                  <a:pt x="2021" y="1100"/>
                </a:lnTo>
                <a:lnTo>
                  <a:pt x="2016" y="1138"/>
                </a:lnTo>
                <a:lnTo>
                  <a:pt x="2013" y="1176"/>
                </a:lnTo>
                <a:lnTo>
                  <a:pt x="2016" y="1213"/>
                </a:lnTo>
                <a:lnTo>
                  <a:pt x="2021" y="1246"/>
                </a:lnTo>
                <a:lnTo>
                  <a:pt x="2033" y="1277"/>
                </a:lnTo>
                <a:lnTo>
                  <a:pt x="2049" y="1307"/>
                </a:lnTo>
                <a:lnTo>
                  <a:pt x="2069" y="1329"/>
                </a:lnTo>
                <a:lnTo>
                  <a:pt x="2099" y="1350"/>
                </a:lnTo>
                <a:lnTo>
                  <a:pt x="2139" y="1364"/>
                </a:lnTo>
                <a:lnTo>
                  <a:pt x="2182" y="1376"/>
                </a:lnTo>
                <a:lnTo>
                  <a:pt x="2218" y="1385"/>
                </a:lnTo>
                <a:lnTo>
                  <a:pt x="2261" y="1394"/>
                </a:lnTo>
                <a:lnTo>
                  <a:pt x="2311" y="1404"/>
                </a:lnTo>
                <a:lnTo>
                  <a:pt x="2354" y="1411"/>
                </a:lnTo>
                <a:lnTo>
                  <a:pt x="2397" y="1423"/>
                </a:lnTo>
                <a:lnTo>
                  <a:pt x="2433" y="1434"/>
                </a:lnTo>
                <a:lnTo>
                  <a:pt x="2468" y="1449"/>
                </a:lnTo>
                <a:lnTo>
                  <a:pt x="2496" y="1467"/>
                </a:lnTo>
                <a:lnTo>
                  <a:pt x="2518" y="1486"/>
                </a:lnTo>
                <a:lnTo>
                  <a:pt x="2549" y="1517"/>
                </a:lnTo>
                <a:lnTo>
                  <a:pt x="2566" y="1545"/>
                </a:lnTo>
                <a:lnTo>
                  <a:pt x="2582" y="1576"/>
                </a:lnTo>
                <a:lnTo>
                  <a:pt x="2589" y="1618"/>
                </a:lnTo>
                <a:lnTo>
                  <a:pt x="2584" y="1658"/>
                </a:lnTo>
                <a:lnTo>
                  <a:pt x="2577" y="1693"/>
                </a:lnTo>
                <a:lnTo>
                  <a:pt x="2566" y="1738"/>
                </a:lnTo>
                <a:lnTo>
                  <a:pt x="2554" y="1787"/>
                </a:lnTo>
                <a:lnTo>
                  <a:pt x="2541" y="1832"/>
                </a:lnTo>
                <a:lnTo>
                  <a:pt x="2536" y="1870"/>
                </a:lnTo>
                <a:lnTo>
                  <a:pt x="2536" y="1900"/>
                </a:lnTo>
                <a:lnTo>
                  <a:pt x="2544" y="1945"/>
                </a:lnTo>
                <a:lnTo>
                  <a:pt x="2554" y="1982"/>
                </a:lnTo>
                <a:lnTo>
                  <a:pt x="2569" y="2011"/>
                </a:lnTo>
                <a:lnTo>
                  <a:pt x="2587" y="2039"/>
                </a:lnTo>
                <a:lnTo>
                  <a:pt x="2612" y="2069"/>
                </a:lnTo>
                <a:lnTo>
                  <a:pt x="2640" y="2100"/>
                </a:lnTo>
                <a:lnTo>
                  <a:pt x="2673" y="2126"/>
                </a:lnTo>
                <a:lnTo>
                  <a:pt x="2710" y="2147"/>
                </a:lnTo>
                <a:lnTo>
                  <a:pt x="2746" y="2159"/>
                </a:lnTo>
                <a:lnTo>
                  <a:pt x="2784" y="2168"/>
                </a:lnTo>
                <a:lnTo>
                  <a:pt x="2822" y="2173"/>
                </a:lnTo>
                <a:lnTo>
                  <a:pt x="2867" y="2175"/>
                </a:lnTo>
                <a:lnTo>
                  <a:pt x="2913" y="2173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-838080" y="4419720"/>
            <a:ext cx="49528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modera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genze comu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non invasiv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14400" y="76320"/>
            <a:ext cx="739152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Rectangle 4"/>
          <p:cNvGrpSpPr/>
          <p:nvPr/>
        </p:nvGrpSpPr>
        <p:grpSpPr>
          <a:xfrm>
            <a:off x="2620800" y="1249200"/>
            <a:ext cx="6486840" cy="2676600"/>
            <a:chOff x="2620800" y="1249200"/>
            <a:chExt cx="6486840" cy="2676600"/>
          </a:xfrm>
        </p:grpSpPr>
        <p:pic>
          <p:nvPicPr>
            <p:cNvPr id="187" name="Rectangle 4" descr=""/>
            <p:cNvPicPr/>
            <p:nvPr/>
          </p:nvPicPr>
          <p:blipFill>
            <a:blip r:embed="rId1"/>
            <a:stretch/>
          </p:blipFill>
          <p:spPr>
            <a:xfrm>
              <a:off x="2620800" y="1249200"/>
              <a:ext cx="64868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666880" y="1295280"/>
              <a:ext cx="6400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AutoShape 5"/>
          <p:cNvGrpSpPr/>
          <p:nvPr/>
        </p:nvGrpSpPr>
        <p:grpSpPr>
          <a:xfrm>
            <a:off x="182520" y="1627200"/>
            <a:ext cx="2457360" cy="1768320"/>
            <a:chOff x="182520" y="1627200"/>
            <a:chExt cx="2457360" cy="1768320"/>
          </a:xfrm>
        </p:grpSpPr>
        <p:pic>
          <p:nvPicPr>
            <p:cNvPr id="190" name="AutoShape 5" descr=""/>
            <p:cNvPicPr/>
            <p:nvPr/>
          </p:nvPicPr>
          <p:blipFill>
            <a:blip r:embed="rId2"/>
            <a:stretch/>
          </p:blipFill>
          <p:spPr>
            <a:xfrm>
              <a:off x="182520" y="1627200"/>
              <a:ext cx="24573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28600" y="1676520"/>
              <a:ext cx="1574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152280" y="164628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d alt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666880" y="1295280"/>
            <a:ext cx="62485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pratiche invasiv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dei pazienti nelle operazioni                di lavaggio o di soddisfazione di bisogn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Manipolazione di effetti letterec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Smaltimento rifiut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Rectangle 9"/>
          <p:cNvGrpSpPr/>
          <p:nvPr/>
        </p:nvGrpSpPr>
        <p:grpSpPr>
          <a:xfrm>
            <a:off x="2620800" y="4297320"/>
            <a:ext cx="6486840" cy="2451240"/>
            <a:chOff x="2620800" y="4297320"/>
            <a:chExt cx="6486840" cy="2451240"/>
          </a:xfrm>
        </p:grpSpPr>
        <p:pic>
          <p:nvPicPr>
            <p:cNvPr id="195" name="Rectangle 9" descr=""/>
            <p:cNvPicPr/>
            <p:nvPr/>
          </p:nvPicPr>
          <p:blipFill>
            <a:blip r:embed="rId3"/>
            <a:stretch/>
          </p:blipFill>
          <p:spPr>
            <a:xfrm>
              <a:off x="2620800" y="4297320"/>
              <a:ext cx="648684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666880" y="4343400"/>
              <a:ext cx="6400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AutoShape 10"/>
          <p:cNvGrpSpPr/>
          <p:nvPr/>
        </p:nvGrpSpPr>
        <p:grpSpPr>
          <a:xfrm>
            <a:off x="182520" y="4449600"/>
            <a:ext cx="2457360" cy="1762200"/>
            <a:chOff x="182520" y="4449600"/>
            <a:chExt cx="2457360" cy="1762200"/>
          </a:xfrm>
        </p:grpSpPr>
        <p:pic>
          <p:nvPicPr>
            <p:cNvPr id="198" name="AutoShape 10" descr=""/>
            <p:cNvPicPr/>
            <p:nvPr/>
          </p:nvPicPr>
          <p:blipFill>
            <a:blip r:embed="rId4"/>
            <a:stretch/>
          </p:blipFill>
          <p:spPr>
            <a:xfrm>
              <a:off x="182520" y="4449600"/>
              <a:ext cx="24573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" y="4495680"/>
              <a:ext cx="1574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Text Box 11"/>
          <p:cNvSpPr/>
          <p:nvPr/>
        </p:nvSpPr>
        <p:spPr>
          <a:xfrm>
            <a:off x="152280" y="454176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 medi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819520" y="4619520"/>
            <a:ext cx="594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nell’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Trasporto campioni biologi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52280" y="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IN FUNZIONE DELL’ATTIVITA’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43280" y="44280"/>
            <a:ext cx="33843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eattivi di laboratori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77080" y="3000240"/>
            <a:ext cx="21956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rmaci  antitumor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4920" y="3303720"/>
            <a:ext cx="2160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estet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203640" y="5950080"/>
            <a:ext cx="25905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sinfettanti Sterilizza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2481120" y="1125360"/>
            <a:ext cx="4318200" cy="45705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16360" y="308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ENTI DEL RISCHIO CHI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8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GRADUAZIONE DEGLI AGENTI IN FUNZIONE DEGLI INDICI DI PERICOLOSITA’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108000" y="1341360"/>
            <a:ext cx="9036000" cy="1871640"/>
            <a:chOff x="108000" y="1341360"/>
            <a:chExt cx="9036000" cy="1871640"/>
          </a:xfrm>
        </p:grpSpPr>
        <p:sp>
          <p:nvSpPr>
            <p:cNvPr id="211" name="Rectangle 4"/>
            <p:cNvSpPr/>
            <p:nvPr/>
          </p:nvSpPr>
          <p:spPr>
            <a:xfrm>
              <a:off x="6804000" y="2565360"/>
              <a:ext cx="2187720" cy="64764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108000" y="1341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08000" y="1989000"/>
              <a:ext cx="2711520" cy="64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108000" y="2565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573280" y="1341360"/>
              <a:ext cx="2187720" cy="647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2573280" y="1989000"/>
              <a:ext cx="2187720" cy="648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4761000" y="1989000"/>
              <a:ext cx="2187360" cy="64800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2573280" y="2565360"/>
              <a:ext cx="218772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761000" y="2565360"/>
              <a:ext cx="218736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1332000" y="14842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di laboratorio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2760840" y="2198520"/>
              <a:ext cx="42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estetici volatili –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3198960" y="2701800"/>
              <a:ext cx="59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Farmaci antitumorali – </a:t>
              </a: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395280" y="342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ahoma"/>
              </a:rPr>
              <a:t>GRADUAZIONE DEGLI AGENTI IN FUNZIONE DEGLI INDICI DI RISCH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30"/>
          <p:cNvGrpSpPr/>
          <p:nvPr/>
        </p:nvGrpSpPr>
        <p:grpSpPr>
          <a:xfrm>
            <a:off x="108000" y="4510080"/>
            <a:ext cx="8136000" cy="1871640"/>
            <a:chOff x="108000" y="4510080"/>
            <a:chExt cx="8136000" cy="1871640"/>
          </a:xfrm>
        </p:grpSpPr>
        <p:sp>
          <p:nvSpPr>
            <p:cNvPr id="225" name="Rectangle 18"/>
            <p:cNvSpPr/>
            <p:nvPr/>
          </p:nvSpPr>
          <p:spPr>
            <a:xfrm>
              <a:off x="108000" y="4510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>
              <a:off x="2819520" y="4510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>
              <a:off x="108000" y="515772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2819520" y="515772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5532480" y="515772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108000" y="5734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2819520" y="5734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5532480" y="573408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547640" y="464652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e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2714760" y="5870520"/>
              <a:ext cx="48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armaci antitumoral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estet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2786040" y="5229360"/>
              <a:ext cx="39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5:51:02Z</dcterms:created>
  <dc:creator>...</dc:creator>
  <dc:description/>
  <dc:language>en-US</dc:language>
  <cp:lastModifiedBy>u</cp:lastModifiedBy>
  <dcterms:modified xsi:type="dcterms:W3CDTF">2010-01-20T21:55:13Z</dcterms:modified>
  <cp:revision>84</cp:revision>
  <dc:subject/>
  <dc:title>Diapositiva 1</dc:title>
</cp:coreProperties>
</file>